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47.jpeg" ContentType="image/jpeg"/>
  <Override PartName="/ppt/media/image50.jpeg" ContentType="image/jpe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jpeg" ContentType="image/jpeg"/>
  <Override PartName="/ppt/media/image51.jpeg" ContentType="image/jpeg"/>
  <Override PartName="/ppt/media/image48.jpeg" ContentType="image/jpeg"/>
  <Override PartName="/ppt/media/image53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52.wmf" ContentType="image/x-wmf"/>
  <Override PartName="/ppt/media/image1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9D87-4F84-418C-9494-22E8A17D1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DR: article in ShaderX7 book. Depth-only pass, plus full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: the depth buffer (rendered as depth-only pass) is used to cull lights as with full deferred sha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FE5-3EA7-45CB-AC0D-4B3A35AC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D9F0-FEBD-4EE7-824A-D95DBB2C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port cost typically increase if blending is enabled but this should not be the case of the G-Buffer “building”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4651-7A38-4235-A2EB-359FAD3F0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nder objects in front-to-back order: sounds obvious but can really make a difference. Sorting front-to-back means less pixels written out to RTs (exported), thus reducing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5E49-9E71-436A-8F4A-A02E2DB5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0E8A-DAE8-4E11-A8CE-0115B50E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 packing allow a reducing in the number of RT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gressive packing may prevent filtering later on!: can consider filtering-friendly packing. If packing is filtering un-friendly then an additional “unpacking” pass will be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6A80-0440-463F-9EFE-AD1A035F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F4C8-A774-4C40-AF9A-34A51743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 processing is relevant for most deferred engines, either fully deferred or semi defer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ghts should still be culled as much as possible (e.g. Using CPU culling, or occlusion que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light contributions to accumulation buffer (or light buffer if using light pre-pa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7EF8-2FCE-4A2D-8703-A814B8ECF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CB90-A492-430E-87C7-88DEB78AF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ll be focused on DX11 but will also mention examples pertaining to previous A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FB9F-2504-4365-B6FA-9BD6BA4C1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 time to go through all optimizations for light rendering – check previous literature on the topic or see backup slides of this presen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772B-566D-419A-A594-23304AD10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B570-9B00-4936-9115-7B7D0C59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t as simple as it seems: unless you’re doing it really naively with a bounding box around the sphere! This solution is too conservative as it generates too large an area to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transforming a sphere in view space and adding +/- XY radius to sphere centre before projection is only an approximation. This is because spheres project to ellipse in post-perspective space and thus simple projection will fail at extreme angles and/or when light is close to the came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CC9-211A-46E8-9E62-98FEBF80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ple” sphere projection  yields a quad whose centre is always the position of the light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2D8-99E6-4702-868B-BB31AEB4E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” projection can have quad not centered around light sou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CEC-B59D-4AA7-95E6-0A505FA6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frontmost Z of light volume: i.e. Point on the volume that is closest to the cam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B6AF-AE9D-41AD-80FC-9C4A65F1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ss light equation as normal: this can include shadows if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E72-F27C-4D79-97D4-D9B4C086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-specific ad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generates redundant memory operations 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repeated for every 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move work up the pip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6A9F-8305-420D-89D3-CD3C9417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D: some GPUs can bilinear-filter DXGI_FORMAT_R16G16B16A16 _FLOAT at full sp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559-2A61-420A-A25F-82A2CECF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ull Deferred eng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1B38-590E-4E6F-9F79-DD735CB82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Use this regardless of the light processing method used: whether it’s using light volumes or qu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0A99-E587-47C7-9E08-2910D3A1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ender targets must be multisampled (increase memory cost): you can get away with not using a MSAA accumulation buffer but you may need to convert MSAA depth buffer to non-MSAA depth buffer if you need further render ops requiring depth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2031-5ECD-4681-AA33-F30B35C41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ge detection via centroid is a neat trick: i.e. Declaring SV_POSITION with centroid interpolation mode and checking is interpolated variable ends with 0.5 or not. If not then edge pix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etter to detect edges checking depth and normals discontinuities: quite a few code examples exist that do this. Be careful when using depth from depth buffer: almost every sample will have a unique dep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verall MSAA is still a high cost with Fully-deferred engines; may want to consider alternative FSAA method like MLA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using depth derivatives for edge detection then watch out for the case where depth buffer is used as G-Buffer since depth is unique per-sample due to MSA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1683-AA83-444E-B5D9-BBDE9EFD7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1E82-8E2F-425E-9B91-04180AD2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2CB2-B102-4E12-99CB-9FF8A643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also works if object intersect the light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tted line means depth test fai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37F3-4556-4DF0-833F-8426A9D4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l known method of marking samples inside a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ives perfect 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D24-BAC1-4E6C-A436-A84BD3DF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require more memory: especially if MSAA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rward rendering required for translucent objects: unless DX11 OIT solution i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BDC5-AFCF-4AC6-B866-1931477E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tting more and more popular. Described by Wolfgang Engel in his blog at http://diaryofagraphicsprogrammer.blogspot.com/2008/03/light-pre-pass-render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ly access to geometries’ normal textures required at this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y make for a cheaper first p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A779-1121-47C6-AE17-D9CC2EB27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ltiple overlapping lights can be combined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he result of light equations into light 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9125-E7B0-4181-9013-93DD31A17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191-B888-4ED3-85A4-C46731C5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ss memory needed than fully deferred (no MR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ows materials with multiple diffuse or specular texture that may not fix into a traditional Gbuff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: limited storage for materials (monochromatic spec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1F60-96FD-4B2B-A41B-2FA8FF0D5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B49-52BA-470C-B28B-06C88C9D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8FB-FCD8-466E-AA5F-C7A88E5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F0A-BEA4-4FDA-8109-E0958D37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48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82320"/>
            <a:ext cx="264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028-163E-4638-AE1B-68826063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A11-1B11-4EA8-8CB9-12FE617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4ED-ED14-4C33-B946-6345AB95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008-A2E4-4B3B-A264-ABD966A3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54C-2F0D-40F6-824F-8EF1BBD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776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670-5AEF-4BC3-8734-0626683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8B5-8E19-4AD3-B482-390C30E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8232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AD1-B8A8-417D-869B-8F915F06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480"/>
            <a:ext cx="4015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823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60E-CF14-4578-AE9E-2352A84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6CC-32D3-4A10-8089-3DA3AC2CA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mi-Deferred: Other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428480"/>
            <a:ext cx="84358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-indexed Deferred Re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re ids of “visible” lights into light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ing stencil or blending to mark light 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erred Sha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basic form of deferred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rform shadowing from screen-sized depth buf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st graphic engines now employ deferred sha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y 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-Buffer Building Pass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5920" y="1428480"/>
            <a:ext cx="4114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PUs can be bottlenecked by “export”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ort cost is the cost of writing PS outputs into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mon scenario as PS is typically short for this pas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Rectangle 3"/>
          <p:cNvGrpSpPr/>
          <p:nvPr/>
        </p:nvGrpSpPr>
        <p:grpSpPr>
          <a:xfrm>
            <a:off x="4511520" y="3565440"/>
            <a:ext cx="4613400" cy="1384560"/>
            <a:chOff x="4511520" y="3565440"/>
            <a:chExt cx="4613400" cy="1384560"/>
          </a:xfrm>
        </p:grpSpPr>
        <p:pic>
          <p:nvPicPr>
            <p:cNvPr id="290" name="Rectangle 3" descr=""/>
            <p:cNvPicPr/>
            <p:nvPr/>
          </p:nvPicPr>
          <p:blipFill>
            <a:blip r:embed="rId1"/>
            <a:stretch/>
          </p:blipFill>
          <p:spPr>
            <a:xfrm>
              <a:off x="4511520" y="3565440"/>
              <a:ext cx="461340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572000" y="3605040"/>
              <a:ext cx="450072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4"/>
          <p:cNvGrpSpPr/>
          <p:nvPr/>
        </p:nvGrpSpPr>
        <p:grpSpPr>
          <a:xfrm>
            <a:off x="5992920" y="1474920"/>
            <a:ext cx="1670040" cy="860400"/>
            <a:chOff x="5992920" y="1474920"/>
            <a:chExt cx="1670040" cy="860400"/>
          </a:xfrm>
        </p:grpSpPr>
        <p:pic>
          <p:nvPicPr>
            <p:cNvPr id="293" name="Rectangle 4" descr=""/>
            <p:cNvPicPr/>
            <p:nvPr/>
          </p:nvPicPr>
          <p:blipFill>
            <a:blip r:embed="rId2"/>
            <a:stretch/>
          </p:blipFill>
          <p:spPr>
            <a:xfrm>
              <a:off x="5992920" y="1474920"/>
              <a:ext cx="167004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012000" y="1492200"/>
              <a:ext cx="163656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alibri"/>
                </a:rPr>
                <a:t>Pixel Sha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5"/>
          <p:cNvGrpSpPr/>
          <p:nvPr/>
        </p:nvGrpSpPr>
        <p:grpSpPr>
          <a:xfrm>
            <a:off x="4552920" y="3706920"/>
            <a:ext cx="1098720" cy="785880"/>
            <a:chOff x="4552920" y="3706920"/>
            <a:chExt cx="1098720" cy="785880"/>
          </a:xfrm>
        </p:grpSpPr>
        <p:pic>
          <p:nvPicPr>
            <p:cNvPr id="296" name="Rectangle 5" descr=""/>
            <p:cNvPicPr/>
            <p:nvPr/>
          </p:nvPicPr>
          <p:blipFill>
            <a:blip r:embed="rId3"/>
            <a:stretch/>
          </p:blipFill>
          <p:spPr>
            <a:xfrm>
              <a:off x="4552920" y="3706920"/>
              <a:ext cx="1098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4643280" y="3743280"/>
              <a:ext cx="936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6"/>
          <p:cNvGrpSpPr/>
          <p:nvPr/>
        </p:nvGrpSpPr>
        <p:grpSpPr>
          <a:xfrm>
            <a:off x="5705640" y="3700440"/>
            <a:ext cx="1096920" cy="785880"/>
            <a:chOff x="5705640" y="3700440"/>
            <a:chExt cx="1096920" cy="785880"/>
          </a:xfrm>
        </p:grpSpPr>
        <p:pic>
          <p:nvPicPr>
            <p:cNvPr id="299" name="Rectangle 6" descr=""/>
            <p:cNvPicPr/>
            <p:nvPr/>
          </p:nvPicPr>
          <p:blipFill>
            <a:blip r:embed="rId4"/>
            <a:stretch/>
          </p:blipFill>
          <p:spPr>
            <a:xfrm>
              <a:off x="5705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796000" y="3738600"/>
              <a:ext cx="9367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Rectangle 7"/>
          <p:cNvGrpSpPr/>
          <p:nvPr/>
        </p:nvGrpSpPr>
        <p:grpSpPr>
          <a:xfrm>
            <a:off x="6870600" y="3700440"/>
            <a:ext cx="1096920" cy="785880"/>
            <a:chOff x="6870600" y="3700440"/>
            <a:chExt cx="1096920" cy="785880"/>
          </a:xfrm>
        </p:grpSpPr>
        <p:pic>
          <p:nvPicPr>
            <p:cNvPr id="302" name="Rectangle 7" descr=""/>
            <p:cNvPicPr/>
            <p:nvPr/>
          </p:nvPicPr>
          <p:blipFill>
            <a:blip r:embed="rId5"/>
            <a:stretch/>
          </p:blipFill>
          <p:spPr>
            <a:xfrm>
              <a:off x="687060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6958080" y="3738600"/>
              <a:ext cx="927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7991640" y="3700440"/>
            <a:ext cx="1096920" cy="785880"/>
            <a:chOff x="7991640" y="3700440"/>
            <a:chExt cx="1096920" cy="785880"/>
          </a:xfrm>
        </p:grpSpPr>
        <p:pic>
          <p:nvPicPr>
            <p:cNvPr id="305" name="Rectangle 8" descr=""/>
            <p:cNvPicPr/>
            <p:nvPr/>
          </p:nvPicPr>
          <p:blipFill>
            <a:blip r:embed="rId6"/>
            <a:stretch/>
          </p:blipFill>
          <p:spPr>
            <a:xfrm>
              <a:off x="7991640" y="3700440"/>
              <a:ext cx="10969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093160" y="3738600"/>
              <a:ext cx="90468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RT #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0"/>
          <p:cNvSpPr/>
          <p:nvPr/>
        </p:nvSpPr>
        <p:spPr>
          <a:xfrm>
            <a:off x="6026040" y="439740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-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Straight Arrow Connector 10"/>
          <p:cNvCxnSpPr>
            <a:stCxn id="293" idx="2"/>
            <a:endCxn id="296" idx="0"/>
          </p:cNvCxnSpPr>
          <p:nvPr/>
        </p:nvCxnSpPr>
        <p:spPr>
          <a:xfrm flipH="1">
            <a:off x="5111280" y="2325600"/>
            <a:ext cx="1720080" cy="1418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9" name="Straight Arrow Connector 11"/>
          <p:cNvCxnSpPr>
            <a:stCxn id="293" idx="2"/>
            <a:endCxn id="305" idx="0"/>
          </p:cNvCxnSpPr>
          <p:nvPr/>
        </p:nvCxnSpPr>
        <p:spPr>
          <a:xfrm>
            <a:off x="6829920" y="2325240"/>
            <a:ext cx="171540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2"/>
          <p:cNvCxnSpPr>
            <a:stCxn id="293" idx="2"/>
            <a:endCxn id="299" idx="0"/>
          </p:cNvCxnSpPr>
          <p:nvPr/>
        </p:nvCxnSpPr>
        <p:spPr>
          <a:xfrm flipH="1">
            <a:off x="6264000" y="2325240"/>
            <a:ext cx="56736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3"/>
          <p:cNvCxnSpPr>
            <a:stCxn id="293" idx="2"/>
            <a:endCxn id="302" idx="0"/>
          </p:cNvCxnSpPr>
          <p:nvPr/>
        </p:nvCxnSpPr>
        <p:spPr>
          <a:xfrm>
            <a:off x="6831000" y="2325240"/>
            <a:ext cx="591120" cy="141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12" name="Explosion 1 14"/>
          <p:cNvGrpSpPr/>
          <p:nvPr/>
        </p:nvGrpSpPr>
        <p:grpSpPr>
          <a:xfrm>
            <a:off x="5175360" y="2352600"/>
            <a:ext cx="3267000" cy="1116000"/>
            <a:chOff x="5175360" y="2352600"/>
            <a:chExt cx="3267000" cy="1116000"/>
          </a:xfrm>
        </p:grpSpPr>
        <p:pic>
          <p:nvPicPr>
            <p:cNvPr id="313" name="Explosion 1 14" descr=""/>
            <p:cNvPicPr/>
            <p:nvPr/>
          </p:nvPicPr>
          <p:blipFill>
            <a:blip r:embed="rId7"/>
            <a:stretch/>
          </p:blipFill>
          <p:spPr>
            <a:xfrm>
              <a:off x="5175360" y="2352600"/>
              <a:ext cx="32670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11920" y="2682720"/>
              <a:ext cx="1762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alibri"/>
                </a:rPr>
                <a:t>Argh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nder objects in front-to-back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se fewer render targets in your MRT conf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is also means less fetches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nd less memory usag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oid slow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port Cost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24000" y="1275840"/>
            <a:ext cx="4535280" cy="38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MD GP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void slow forma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, R32G32, R32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R32G32B32A32f, R32G32f, R16G16B16A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+ R32F, R16G16, R16 on older GPU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otal export cost =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(Num RTs) * (Slowest 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5003640" y="1276200"/>
            <a:ext cx="403236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Calibri"/>
              </a:rPr>
              <a:t>nVidia G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Each RT adds to expor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RT export cost proportional to bit depth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&lt;32bpp same speed as 32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sRGB formats are slower</a:t>
            </a:r>
            <a:br>
              <a:rPr sz="1800"/>
            </a:b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1010102 and 111110 slower than 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Total export cost = </a:t>
            </a:r>
            <a:br>
              <a:rPr sz="2400"/>
            </a:b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Cost(RT0)+Cost(RT1)+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pth Buffer as Texture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need to store depth into a color 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imply re-use the depth buffer as texture input during 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same Depth buffer can remain bound for depth rejection in DX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ducing Export Cost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P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e render target storage for a few extra ALU instr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s used to pack / unpack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ample: normals with two components + 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U cost is typically negligible compared to the performance saving of writing and fetching to/from fewer tex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ggressive packing may prevent filtering later 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.g. During post-process eff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Full and Semi-Deferr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d light contributions to accumulation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n use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ght volu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all c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ull lights as needed before sending them to the G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render lights on skybox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428480"/>
            <a:ext cx="5915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light volumes corresponding to light’s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ullscreen tri/quad (ambient or directional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phere (poin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e/pyramid (spot ligh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 shapes (level ed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ight fit between light coverage and process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D projection of volume define shaded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blend each light contribution to the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early depth/stencil culling optim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rapezoid 3"/>
          <p:cNvSpPr/>
          <p:nvPr/>
        </p:nvSpPr>
        <p:spPr>
          <a:xfrm rot="10800000">
            <a:off x="6299280" y="1418760"/>
            <a:ext cx="2665440" cy="30625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58720 h 3062520"/>
              <a:gd name="textAreaBottom" fmla="*/ 3062880 h 3062520"/>
            </a:gdLst>
            <a:ahLst/>
            <a:rect l="textAreaLeft" t="textAreaTop" r="textAreaRight" b="textAreaBottom"/>
            <a:pathLst>
              <a:path w="2665412" h="3061395">
                <a:moveTo>
                  <a:pt x="0" y="3061395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61395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 rot="19455600">
            <a:off x="6969240" y="1666440"/>
            <a:ext cx="693720" cy="704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Dodecagon 5"/>
          <p:cNvSpPr/>
          <p:nvPr/>
        </p:nvSpPr>
        <p:spPr>
          <a:xfrm>
            <a:off x="6346800" y="1879560"/>
            <a:ext cx="1592280" cy="1513080"/>
          </a:xfrm>
          <a:custGeom>
            <a:avLst/>
            <a:gdLst>
              <a:gd name="textAreaLeft" fmla="*/ 213120 w 1592280"/>
              <a:gd name="textAreaRight" fmla="*/ 1379160 w 1592280"/>
              <a:gd name="textAreaTop" fmla="*/ 202680 h 1513080"/>
              <a:gd name="textAreaBottom" fmla="*/ 1310400 h 1513080"/>
            </a:gdLst>
            <a:ahLst/>
            <a:rect l="textAreaLeft" t="textAreaTop" r="textAreaRight" b="textAreaBottom"/>
            <a:pathLst>
              <a:path w="1592262" h="1512888">
                <a:moveTo>
                  <a:pt x="0" y="553745"/>
                </a:moveTo>
                <a:lnTo>
                  <a:pt x="213334" y="202699"/>
                </a:lnTo>
                <a:lnTo>
                  <a:pt x="582797" y="0"/>
                </a:lnTo>
                <a:lnTo>
                  <a:pt x="1009465" y="0"/>
                </a:lnTo>
                <a:lnTo>
                  <a:pt x="1378928" y="202699"/>
                </a:lnTo>
                <a:lnTo>
                  <a:pt x="1592262" y="553745"/>
                </a:lnTo>
                <a:lnTo>
                  <a:pt x="1592262" y="959143"/>
                </a:lnTo>
                <a:lnTo>
                  <a:pt x="1378928" y="1310189"/>
                </a:lnTo>
                <a:lnTo>
                  <a:pt x="1009465" y="1512888"/>
                </a:lnTo>
                <a:lnTo>
                  <a:pt x="582797" y="1512888"/>
                </a:lnTo>
                <a:lnTo>
                  <a:pt x="213334" y="1310189"/>
                </a:lnTo>
                <a:lnTo>
                  <a:pt x="0" y="95914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hoto"/>
          <p:cNvSpPr/>
          <p:nvPr/>
        </p:nvSpPr>
        <p:spPr>
          <a:xfrm rot="10800000">
            <a:off x="7356600" y="46065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74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ferred Shading Optimiz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39640" y="336384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icolas Thibieroz, 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203480"/>
            <a:ext cx="85788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C:\Users\nthibieroz\Desktop\LVR1.jpg"/>
          <p:cNvPicPr/>
          <p:nvPr/>
        </p:nvPicPr>
        <p:blipFill>
          <a:blip r:embed="rId1"/>
          <a:stretch/>
        </p:blipFill>
        <p:spPr>
          <a:xfrm>
            <a:off x="108000" y="98748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C:\Users\nthibieroz\Desktop\LVR2.jpg"/>
          <p:cNvPicPr/>
          <p:nvPr/>
        </p:nvPicPr>
        <p:blipFill>
          <a:blip r:embed="rId2"/>
          <a:stretch/>
        </p:blipFill>
        <p:spPr>
          <a:xfrm>
            <a:off x="1547640" y="152244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C:\Users\nthibieroz\Desktop\LVR3.jpg"/>
          <p:cNvPicPr/>
          <p:nvPr/>
        </p:nvPicPr>
        <p:blipFill>
          <a:blip r:embed="rId3"/>
          <a:stretch/>
        </p:blipFill>
        <p:spPr>
          <a:xfrm>
            <a:off x="2916360" y="2098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C:\Users\nthibieroz\Desktop\LVR4.jpg"/>
          <p:cNvPicPr/>
          <p:nvPr/>
        </p:nvPicPr>
        <p:blipFill>
          <a:blip r:embed="rId4"/>
          <a:stretch/>
        </p:blipFill>
        <p:spPr>
          <a:xfrm>
            <a:off x="4211640" y="267480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C:\Users\nthibieroz\Desktop\LVR5.jpg"/>
          <p:cNvPicPr/>
          <p:nvPr/>
        </p:nvPicPr>
        <p:blipFill>
          <a:blip r:embed="rId5"/>
          <a:stretch/>
        </p:blipFill>
        <p:spPr>
          <a:xfrm>
            <a:off x="5486400" y="321948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8"/>
          <p:cNvSpPr/>
          <p:nvPr/>
        </p:nvSpPr>
        <p:spPr>
          <a:xfrm>
            <a:off x="395280" y="4227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ull slides available in backup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eometry Optim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428480"/>
            <a:ext cx="8578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ways make sure your light volumes are geometry-optimiz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both index re-use (post VS cache)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sequential vertex reads (pre VS cach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on oversight for algorithmically generated meshes (spheres, cones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important when depth/stencil-only rendering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 pixel shader = more likely to be VS fetch limited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428480"/>
            <a:ext cx="5554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 to light volumes: render a camera-facing quad for each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ad screen coordinates need to cover the extents of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impler geometry but coarser rend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t as simple as it se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pheres (point lights) project to ellipses in post-perspective spa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cause problems when close to c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rapezoid 4"/>
          <p:cNvSpPr/>
          <p:nvPr/>
        </p:nvSpPr>
        <p:spPr>
          <a:xfrm rot="10800000">
            <a:off x="5651640" y="1275480"/>
            <a:ext cx="3241440" cy="2519640"/>
          </a:xfrm>
          <a:custGeom>
            <a:avLst/>
            <a:gdLst>
              <a:gd name="textAreaLeft" fmla="*/ 702000 w 3241440"/>
              <a:gd name="textAreaRight" fmla="*/ 2539440 w 3241440"/>
              <a:gd name="textAreaTop" fmla="*/ 545760 h 2519640"/>
              <a:gd name="textAreaBottom" fmla="*/ 2520000 h 2519640"/>
            </a:gdLst>
            <a:ahLst/>
            <a:rect l="textAreaLeft" t="textAreaTop" r="textAreaRight" b="textAreaBottom"/>
            <a:pathLst>
              <a:path w="3240360" h="2520280">
                <a:moveTo>
                  <a:pt x="0" y="2520280"/>
                </a:moveTo>
                <a:lnTo>
                  <a:pt x="1052797" y="0"/>
                </a:lnTo>
                <a:lnTo>
                  <a:pt x="2187563" y="0"/>
                </a:lnTo>
                <a:lnTo>
                  <a:pt x="3240360" y="252028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3"/>
          <p:cNvSpPr/>
          <p:nvPr/>
        </p:nvSpPr>
        <p:spPr>
          <a:xfrm>
            <a:off x="6372360" y="1563840"/>
            <a:ext cx="1800000" cy="17794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6"/>
          <p:cNvSpPr/>
          <p:nvPr/>
        </p:nvSpPr>
        <p:spPr>
          <a:xfrm flipV="1">
            <a:off x="7308000" y="2452320"/>
            <a:ext cx="86364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8"/>
          <p:cNvSpPr/>
          <p:nvPr/>
        </p:nvSpPr>
        <p:spPr>
          <a:xfrm flipH="1" flipV="1">
            <a:off x="6372000" y="2452320"/>
            <a:ext cx="936360" cy="235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0"/>
          <p:cNvSpPr/>
          <p:nvPr/>
        </p:nvSpPr>
        <p:spPr>
          <a:xfrm>
            <a:off x="6442920" y="2859120"/>
            <a:ext cx="86508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22"/>
          <p:cNvSpPr/>
          <p:nvPr/>
        </p:nvSpPr>
        <p:spPr>
          <a:xfrm flipH="1">
            <a:off x="7308360" y="2859120"/>
            <a:ext cx="792360" cy="19447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4"/>
          <p:cNvSpPr/>
          <p:nvPr/>
        </p:nvSpPr>
        <p:spPr>
          <a:xfrm>
            <a:off x="6372360" y="2452680"/>
            <a:ext cx="180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7"/>
          <p:cNvSpPr/>
          <p:nvPr/>
        </p:nvSpPr>
        <p:spPr>
          <a:xfrm>
            <a:off x="7236000" y="24098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41"/>
          <p:cNvSpPr/>
          <p:nvPr/>
        </p:nvSpPr>
        <p:spPr>
          <a:xfrm flipV="1">
            <a:off x="6443640" y="2471760"/>
            <a:ext cx="803160" cy="3873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45"/>
          <p:cNvSpPr/>
          <p:nvPr/>
        </p:nvSpPr>
        <p:spPr>
          <a:xfrm flipH="1" flipV="1">
            <a:off x="7308360" y="2479680"/>
            <a:ext cx="792360" cy="37944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9"/>
          <p:cNvSpPr/>
          <p:nvPr/>
        </p:nvSpPr>
        <p:spPr>
          <a:xfrm>
            <a:off x="7885080" y="365112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0"/>
          <p:cNvSpPr/>
          <p:nvPr/>
        </p:nvSpPr>
        <p:spPr>
          <a:xfrm>
            <a:off x="5148360" y="11224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1"/>
          <p:cNvSpPr/>
          <p:nvPr/>
        </p:nvSpPr>
        <p:spPr>
          <a:xfrm>
            <a:off x="6804000" y="47322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2"/>
          <p:cNvSpPr/>
          <p:nvPr/>
        </p:nvSpPr>
        <p:spPr>
          <a:xfrm>
            <a:off x="6948360" y="2066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\\atidesktop1\Shared\DX11MeshViewer Screenshots\quadlights.jpg"/>
          <p:cNvPicPr/>
          <p:nvPr/>
        </p:nvPicPr>
        <p:blipFill>
          <a:blip r:embed="rId2"/>
          <a:stretch/>
        </p:blipFill>
        <p:spPr>
          <a:xfrm>
            <a:off x="-468360" y="-426960"/>
            <a:ext cx="10004400" cy="5807160"/>
          </a:xfrm>
          <a:prstGeom prst="rect">
            <a:avLst/>
          </a:prstGeom>
          <a:ln w="0">
            <a:noFill/>
          </a:ln>
        </p:spPr>
      </p:pic>
      <p:sp>
        <p:nvSpPr>
          <p:cNvPr id="362" name="TextBox 6"/>
          <p:cNvSpPr/>
          <p:nvPr/>
        </p:nvSpPr>
        <p:spPr>
          <a:xfrm>
            <a:off x="-36360" y="0"/>
            <a:ext cx="316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s lights as qu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\\atidesktop1\Shared\DX11MeshViewer Screenshots\quadlight_zoom_in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-36360" y="0"/>
            <a:ext cx="4608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\\atidesktop1\Shared\DX11MeshViewer Screenshots\quadlight_zoom_correct.jpg"/>
          <p:cNvPicPr/>
          <p:nvPr/>
        </p:nvPicPr>
        <p:blipFill>
          <a:blip r:embed="rId2"/>
          <a:stretch/>
        </p:blipFill>
        <p:spPr>
          <a:xfrm>
            <a:off x="-247680" y="-176040"/>
            <a:ext cx="9572760" cy="55562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-36360" y="0"/>
            <a:ext cx="446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rrect sphere quad en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reen-Aligned Quad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24000" y="1428480"/>
            <a:ext cx="61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itively render each quad o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cess light equation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quad Z coordinates to Min Z of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arly Z will reject lights behind geometry with 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atch out for clipp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ed to clamp quad Z to near clip plane Z if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ght MinZ &lt; Near Clip Plane Z &lt; Light Max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aves on geometry cost but not as accurate as volu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4150080" y="9792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SwapChai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hoto"/>
          <p:cNvSpPr/>
          <p:nvPr/>
        </p:nvSpPr>
        <p:spPr>
          <a:xfrm rot="10800000">
            <a:off x="75009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odecagon 5"/>
          <p:cNvSpPr/>
          <p:nvPr/>
        </p:nvSpPr>
        <p:spPr>
          <a:xfrm>
            <a:off x="7074000" y="1924200"/>
            <a:ext cx="720720" cy="718920"/>
          </a:xfrm>
          <a:custGeom>
            <a:avLst/>
            <a:gdLst>
              <a:gd name="textAreaLeft" fmla="*/ 96480 w 720720"/>
              <a:gd name="textAreaRight" fmla="*/ 624240 w 72072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720080" h="720080">
                <a:moveTo>
                  <a:pt x="0" y="263563"/>
                </a:moveTo>
                <a:lnTo>
                  <a:pt x="96477" y="96477"/>
                </a:lnTo>
                <a:lnTo>
                  <a:pt x="263563" y="0"/>
                </a:lnTo>
                <a:lnTo>
                  <a:pt x="456517" y="0"/>
                </a:lnTo>
                <a:lnTo>
                  <a:pt x="623603" y="96477"/>
                </a:lnTo>
                <a:lnTo>
                  <a:pt x="720080" y="263563"/>
                </a:lnTo>
                <a:lnTo>
                  <a:pt x="720080" y="456517"/>
                </a:lnTo>
                <a:lnTo>
                  <a:pt x="623603" y="623603"/>
                </a:lnTo>
                <a:lnTo>
                  <a:pt x="456517" y="720080"/>
                </a:lnTo>
                <a:lnTo>
                  <a:pt x="263563" y="720080"/>
                </a:lnTo>
                <a:lnTo>
                  <a:pt x="96477" y="623603"/>
                </a:lnTo>
                <a:lnTo>
                  <a:pt x="0" y="456517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rapezoid 10"/>
          <p:cNvSpPr/>
          <p:nvPr/>
        </p:nvSpPr>
        <p:spPr>
          <a:xfrm rot="10800000">
            <a:off x="64436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6"/>
          <p:cNvSpPr/>
          <p:nvPr/>
        </p:nvSpPr>
        <p:spPr>
          <a:xfrm>
            <a:off x="7866000" y="2417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in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37"/>
          <p:cNvSpPr/>
          <p:nvPr/>
        </p:nvSpPr>
        <p:spPr>
          <a:xfrm>
            <a:off x="7866000" y="1770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ax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2"/>
          <p:cNvSpPr/>
          <p:nvPr/>
        </p:nvSpPr>
        <p:spPr>
          <a:xfrm rot="2115600">
            <a:off x="7686360" y="3219480"/>
            <a:ext cx="38880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4"/>
          <p:cNvSpPr/>
          <p:nvPr/>
        </p:nvSpPr>
        <p:spPr>
          <a:xfrm>
            <a:off x="7083360" y="2633760"/>
            <a:ext cx="71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rectCompute Ligh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40940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ee Johan Andersson’s 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Accessing Light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428480"/>
            <a:ext cx="43308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void using dynamic constant buffer indexing in Pixel Sh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This generates redundant memory operations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repeated for every pix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stead fetch light properties from CB in VS (or 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And pass them to PS as interpol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o actual interpolation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Use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nointerpolation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to reduce number of shader instr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4643280" y="1405080"/>
            <a:ext cx="4429440" cy="293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LIGHT_STR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cbuffer cbPointLightArr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LIGHT_STRUCT g_Light[NUM_LIGHTS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PS_PointLight(PS_INPUT i) : SV_TARG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 // ...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uint uIndex = i.uPrimIndex/2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Color 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float4 vLightPos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Pos;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 rot="21304800">
            <a:off x="6262560" y="3521160"/>
            <a:ext cx="2409840" cy="893520"/>
          </a:xfrm>
          <a:prstGeom prst="ellipse">
            <a:avLst/>
          </a:prstGeom>
          <a:noFill/>
          <a:ln w="7632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643280" y="1407960"/>
            <a:ext cx="4429440" cy="360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S_QUAD_INPUT VS_PointLight(VS_INPUT 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PS_QUAD_INPUT Out=(PS_QUAD_INPUT)0;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position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Position = float4(i.vNDCPosition, 1.0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 </a:t>
            </a:r>
            <a:r>
              <a:rPr b="0" lang="en-GB" sz="1100" spc="-1" strike="noStrike">
                <a:solidFill>
                  <a:srgbClr val="00b050"/>
                </a:solidFill>
                <a:latin typeface="Courier New"/>
                <a:ea typeface="Courier New"/>
              </a:rPr>
              <a:t>// Pass light properties to 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uint uIndex = i.uVertexIndex/4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Color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Index].v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ut.vLightPos   =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g_Light[uLightIndex].v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Ou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PS_QUAD_IN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Color: LCOLO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ointerpolation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float4 vLightPos  : LPOS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4 vPosition                  : SV_POSITI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xture Read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428480"/>
            <a:ext cx="86868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 fetch G-Buffer data for each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sure point sampling filtering is us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MD: Point sampling filtering is fast for all form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Calibri"/>
              </a:rPr>
              <a:t>nVidia: prefer 16F over 32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st-processing passes may require filtering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755640" y="3867120"/>
            <a:ext cx="41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684360" y="372420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MD: watch out for slow bilinear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16G16B16A16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DXGI_FORMAT_R32G32B32[A32]_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5148360" y="376704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</a:rPr>
              <a:t>nVidia: no penalty for using bilinear over point sampling filtering for formats &lt; 128 b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G-Buffer Building 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Isosceles Triangle 8"/>
          <p:cNvSpPr/>
          <p:nvPr/>
        </p:nvSpPr>
        <p:spPr>
          <a:xfrm rot="20605800">
            <a:off x="22496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sosceles Triangle 11"/>
          <p:cNvSpPr/>
          <p:nvPr/>
        </p:nvSpPr>
        <p:spPr>
          <a:xfrm rot="1231800">
            <a:off x="2009520" y="3341160"/>
            <a:ext cx="48096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5"/>
          <p:cNvSpPr/>
          <p:nvPr/>
        </p:nvSpPr>
        <p:spPr>
          <a:xfrm>
            <a:off x="2016000" y="4371840"/>
            <a:ext cx="6494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ight Arrow 7"/>
          <p:cNvSpPr/>
          <p:nvPr/>
        </p:nvSpPr>
        <p:spPr>
          <a:xfrm>
            <a:off x="3097080" y="3710160"/>
            <a:ext cx="719280" cy="28872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ight Arrow 9"/>
          <p:cNvSpPr/>
          <p:nvPr/>
        </p:nvSpPr>
        <p:spPr>
          <a:xfrm>
            <a:off x="3097080" y="4573440"/>
            <a:ext cx="719280" cy="289080"/>
          </a:xfrm>
          <a:prstGeom prst="rightArrow">
            <a:avLst>
              <a:gd name="adj1" fmla="val 50000"/>
              <a:gd name="adj2" fmla="val 497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5257800" y="3133800"/>
            <a:ext cx="2232000" cy="1368360"/>
            <a:chOff x="5257800" y="3133800"/>
            <a:chExt cx="2232000" cy="1368360"/>
          </a:xfrm>
        </p:grpSpPr>
        <p:sp>
          <p:nvSpPr>
            <p:cNvPr id="57" name="Rectangle 18"/>
            <p:cNvSpPr/>
            <p:nvPr/>
          </p:nvSpPr>
          <p:spPr>
            <a:xfrm>
              <a:off x="5257800" y="31338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19"/>
            <p:cNvSpPr/>
            <p:nvPr/>
          </p:nvSpPr>
          <p:spPr>
            <a:xfrm rot="20605800">
              <a:off x="5743080" y="36990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Isosceles Triangle 20"/>
            <p:cNvSpPr/>
            <p:nvPr/>
          </p:nvSpPr>
          <p:spPr>
            <a:xfrm rot="1231800">
              <a:off x="5502960" y="37015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ube 21"/>
            <p:cNvSpPr/>
            <p:nvPr/>
          </p:nvSpPr>
          <p:spPr>
            <a:xfrm>
              <a:off x="6553800" y="32778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Box 31"/>
          <p:cNvSpPr/>
          <p:nvPr/>
        </p:nvSpPr>
        <p:spPr>
          <a:xfrm>
            <a:off x="428472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5"/>
          <p:cNvGrpSpPr/>
          <p:nvPr/>
        </p:nvGrpSpPr>
        <p:grpSpPr>
          <a:xfrm>
            <a:off x="5191200" y="1347840"/>
            <a:ext cx="2305080" cy="1368360"/>
            <a:chOff x="5191200" y="1347840"/>
            <a:chExt cx="2305080" cy="1368360"/>
          </a:xfrm>
        </p:grpSpPr>
        <p:sp>
          <p:nvSpPr>
            <p:cNvPr id="63" name="Rectangle 26"/>
            <p:cNvSpPr/>
            <p:nvPr/>
          </p:nvSpPr>
          <p:spPr>
            <a:xfrm>
              <a:off x="5263200" y="1347840"/>
              <a:ext cx="223308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Isosceles Triangle 27"/>
            <p:cNvGrpSpPr/>
            <p:nvPr/>
          </p:nvGrpSpPr>
          <p:grpSpPr>
            <a:xfrm>
              <a:off x="5827680" y="1914480"/>
              <a:ext cx="463320" cy="749880"/>
              <a:chOff x="5827680" y="1914480"/>
              <a:chExt cx="463320" cy="749880"/>
            </a:xfrm>
          </p:grpSpPr>
          <p:pic>
            <p:nvPicPr>
              <p:cNvPr id="6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5827680" y="1914480"/>
                <a:ext cx="46332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20605800">
                <a:off x="5895000" y="225108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Isosceles Triangle 28"/>
            <p:cNvGrpSpPr/>
            <p:nvPr/>
          </p:nvGrpSpPr>
          <p:grpSpPr>
            <a:xfrm>
              <a:off x="5388480" y="1908360"/>
              <a:ext cx="487800" cy="756000"/>
              <a:chOff x="5388480" y="1908360"/>
              <a:chExt cx="487800" cy="756000"/>
            </a:xfrm>
          </p:grpSpPr>
          <p:pic>
            <p:nvPicPr>
              <p:cNvPr id="6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8480" y="1908360"/>
                <a:ext cx="48780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 rot="1231800">
                <a:off x="5558400" y="2233080"/>
                <a:ext cx="24120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Cube 29"/>
            <p:cNvGrpSpPr/>
            <p:nvPr/>
          </p:nvGrpSpPr>
          <p:grpSpPr>
            <a:xfrm>
              <a:off x="6541200" y="1475280"/>
              <a:ext cx="682920" cy="682920"/>
              <a:chOff x="6541200" y="1475280"/>
              <a:chExt cx="682920" cy="682920"/>
            </a:xfrm>
          </p:grpSpPr>
          <p:pic>
            <p:nvPicPr>
              <p:cNvPr id="7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1200" y="1475280"/>
                <a:ext cx="682920" cy="6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6559560" y="1653480"/>
                <a:ext cx="486360" cy="48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2"/>
            <p:cNvSpPr/>
            <p:nvPr/>
          </p:nvSpPr>
          <p:spPr>
            <a:xfrm>
              <a:off x="5191200" y="134784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Up-Down Arrow 34"/>
          <p:cNvSpPr/>
          <p:nvPr/>
        </p:nvSpPr>
        <p:spPr>
          <a:xfrm>
            <a:off x="6300720" y="2787480"/>
            <a:ext cx="142920" cy="289080"/>
          </a:xfrm>
          <a:prstGeom prst="upDownArrow">
            <a:avLst>
              <a:gd name="adj1" fmla="val 50000"/>
              <a:gd name="adj2" fmla="val 505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43"/>
          <p:cNvGrpSpPr/>
          <p:nvPr/>
        </p:nvGrpSpPr>
        <p:grpSpPr>
          <a:xfrm>
            <a:off x="4754520" y="3354480"/>
            <a:ext cx="2232000" cy="1368360"/>
            <a:chOff x="4754520" y="3354480"/>
            <a:chExt cx="2232000" cy="1368360"/>
          </a:xfrm>
        </p:grpSpPr>
        <p:sp>
          <p:nvSpPr>
            <p:cNvPr id="76" name="Rectangle 35"/>
            <p:cNvSpPr/>
            <p:nvPr/>
          </p:nvSpPr>
          <p:spPr>
            <a:xfrm>
              <a:off x="4754520" y="335448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Isosceles Triangle 36"/>
            <p:cNvGrpSpPr/>
            <p:nvPr/>
          </p:nvGrpSpPr>
          <p:grpSpPr>
            <a:xfrm>
              <a:off x="5322240" y="3920040"/>
              <a:ext cx="457200" cy="749880"/>
              <a:chOff x="5322240" y="3920040"/>
              <a:chExt cx="457200" cy="749880"/>
            </a:xfrm>
          </p:grpSpPr>
          <p:pic>
            <p:nvPicPr>
              <p:cNvPr id="78" name="Isosceles Triangle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5322240" y="3920040"/>
                <a:ext cx="45720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20605800">
                <a:off x="5385960" y="4257720"/>
                <a:ext cx="2174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Isosceles Triangle 37"/>
            <p:cNvGrpSpPr/>
            <p:nvPr/>
          </p:nvGrpSpPr>
          <p:grpSpPr>
            <a:xfrm>
              <a:off x="4876920" y="3913920"/>
              <a:ext cx="493560" cy="756000"/>
              <a:chOff x="4876920" y="3913920"/>
              <a:chExt cx="493560" cy="756000"/>
            </a:xfrm>
          </p:grpSpPr>
          <p:pic>
            <p:nvPicPr>
              <p:cNvPr id="81" name="Isosceles Triangle 37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6920" y="3913920"/>
                <a:ext cx="49356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1231800">
                <a:off x="5049360" y="423936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Cube 38"/>
            <p:cNvSpPr/>
            <p:nvPr/>
          </p:nvSpPr>
          <p:spPr>
            <a:xfrm>
              <a:off x="6050520" y="349848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0"/>
            <p:cNvSpPr/>
            <p:nvPr/>
          </p:nvSpPr>
          <p:spPr>
            <a:xfrm>
              <a:off x="6048000" y="367524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Parallelogram 41"/>
            <p:cNvGrpSpPr/>
            <p:nvPr/>
          </p:nvGrpSpPr>
          <p:grpSpPr>
            <a:xfrm>
              <a:off x="6029280" y="3480840"/>
              <a:ext cx="719280" cy="207000"/>
              <a:chOff x="6029280" y="3480840"/>
              <a:chExt cx="719280" cy="207000"/>
            </a:xfrm>
          </p:grpSpPr>
          <p:pic>
            <p:nvPicPr>
              <p:cNvPr id="86" name="Parallelogram 41" descr=""/>
              <p:cNvPicPr/>
              <p:nvPr/>
            </p:nvPicPr>
            <p:blipFill>
              <a:blip r:embed="rId6"/>
              <a:stretch/>
            </p:blipFill>
            <p:spPr>
              <a:xfrm>
                <a:off x="6029280" y="348084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68240" y="352764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Parallelogram 42"/>
            <p:cNvSpPr/>
            <p:nvPr/>
          </p:nvSpPr>
          <p:spPr>
            <a:xfrm flipH="1" rot="16200000">
              <a:off x="6307200" y="373068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4"/>
          <p:cNvGrpSpPr/>
          <p:nvPr/>
        </p:nvGrpSpPr>
        <p:grpSpPr>
          <a:xfrm>
            <a:off x="4249800" y="3565440"/>
            <a:ext cx="2232000" cy="1368360"/>
            <a:chOff x="4249800" y="3565440"/>
            <a:chExt cx="2232000" cy="1368360"/>
          </a:xfrm>
        </p:grpSpPr>
        <p:sp>
          <p:nvSpPr>
            <p:cNvPr id="90" name="Rectangle 6"/>
            <p:cNvSpPr/>
            <p:nvPr/>
          </p:nvSpPr>
          <p:spPr>
            <a:xfrm>
              <a:off x="4249800" y="356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Isosceles Triangle 10"/>
            <p:cNvSpPr/>
            <p:nvPr/>
          </p:nvSpPr>
          <p:spPr>
            <a:xfrm rot="20605800">
              <a:off x="4735080" y="413064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12"/>
            <p:cNvSpPr/>
            <p:nvPr/>
          </p:nvSpPr>
          <p:spPr>
            <a:xfrm rot="1231800">
              <a:off x="4494960" y="413316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ube 13"/>
            <p:cNvSpPr/>
            <p:nvPr/>
          </p:nvSpPr>
          <p:spPr>
            <a:xfrm>
              <a:off x="5545800" y="370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44"/>
          <p:cNvSpPr/>
          <p:nvPr/>
        </p:nvSpPr>
        <p:spPr>
          <a:xfrm>
            <a:off x="4211640" y="35798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28480"/>
            <a:ext cx="4835520" cy="16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unique scene geometry pass i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-Buffer 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ore material properties (albedo, normal, specular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to depth buffer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lending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28480"/>
            <a:ext cx="857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itively blending lights into accumulation buffer is 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gher blending cost when “fatter” color RT formats are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lending even more expensive when MSAA is enab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Discard() to get rid of pixels not contributing any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 this regardless of the light processing metho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 dot(vColor.xyz, 1.0) == 0 ) discard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result in a significant increase in performanc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42848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SAA with (semi-) deferred engines more complex than “just” enabling MS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ferred” render targets must be multisamp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crease memory cost considerably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ch qualifying sample must be individually 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acts performance significa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Sampling Anti-Aliasing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428480"/>
            <a:ext cx="89391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cting pixel edges reduce processing c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pixel shading on non-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-sample shading on edge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dge detection via centroid is a neat trick, but is not that useful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duces too many edges that don’t need to be shaded per s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specially when tessellation is used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esn’t detect edges from transparent tex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tter to detect edges checking depth and normal discontinu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 consider alternative FSAA methods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\\atidesktop1\Shared\DX11MeshViewer Screenshots\King_edges_optimized.jpg"/>
          <p:cNvPicPr/>
          <p:nvPr/>
        </p:nvPicPr>
        <p:blipFill>
          <a:blip r:embed="rId2"/>
          <a:stretch/>
        </p:blipFill>
        <p:spPr>
          <a:xfrm>
            <a:off x="3816360" y="173340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\\atidesktop1\Shared\DX11MeshViewer Screenshots\King_edges_crap.jpg"/>
          <p:cNvPicPr/>
          <p:nvPr/>
        </p:nvPicPr>
        <p:blipFill>
          <a:blip r:embed="rId3"/>
          <a:stretch/>
        </p:blipFill>
        <p:spPr>
          <a:xfrm>
            <a:off x="3816360" y="-957240"/>
            <a:ext cx="6156360" cy="35751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C:\Users\nthibieroz\Desktop\King_normal.jpg"/>
          <p:cNvPicPr/>
          <p:nvPr/>
        </p:nvPicPr>
        <p:blipFill>
          <a:blip r:embed="rId4"/>
          <a:stretch/>
        </p:blipFill>
        <p:spPr>
          <a:xfrm>
            <a:off x="-36360" y="-446040"/>
            <a:ext cx="5830560" cy="5610240"/>
          </a:xfrm>
          <a:prstGeom prst="rect">
            <a:avLst/>
          </a:prstGeom>
          <a:ln w="0">
            <a:noFill/>
          </a:ln>
        </p:spPr>
      </p:pic>
      <p:sp>
        <p:nvSpPr>
          <p:cNvPr id="404" name="Straight Connector 8"/>
          <p:cNvSpPr/>
          <p:nvPr/>
        </p:nvSpPr>
        <p:spPr>
          <a:xfrm>
            <a:off x="5778360" y="2604960"/>
            <a:ext cx="4194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1"/>
          <p:cNvSpPr/>
          <p:nvPr/>
        </p:nvSpPr>
        <p:spPr>
          <a:xfrm>
            <a:off x="5738040" y="-668160"/>
            <a:ext cx="57240" cy="5991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6" descr="C:\Users\nthibieroz\AppData\Local\Microsoft\Windows\Temporary Internet Files\Content.IE5\4DW186H3\MCj04347130000[1].wmf"/>
          <p:cNvPicPr/>
          <p:nvPr/>
        </p:nvPicPr>
        <p:blipFill>
          <a:blip r:embed="rId5"/>
          <a:stretch/>
        </p:blipFill>
        <p:spPr>
          <a:xfrm>
            <a:off x="5940360" y="4383000"/>
            <a:ext cx="647640" cy="679680"/>
          </a:xfrm>
          <a:prstGeom prst="rect">
            <a:avLst/>
          </a:prstGeom>
          <a:ln w="0">
            <a:noFill/>
          </a:ln>
        </p:spPr>
      </p:pic>
      <p:sp>
        <p:nvSpPr>
          <p:cNvPr id="407" name="Multiply 15"/>
          <p:cNvSpPr/>
          <p:nvPr/>
        </p:nvSpPr>
        <p:spPr>
          <a:xfrm>
            <a:off x="5724360" y="1779480"/>
            <a:ext cx="792360" cy="855720"/>
          </a:xfrm>
          <a:custGeom>
            <a:avLst/>
            <a:gdLst>
              <a:gd name="textAreaLeft" fmla="*/ 155880 w 792360"/>
              <a:gd name="textAreaRight" fmla="*/ 636480 w 792360"/>
              <a:gd name="textAreaTop" fmla="*/ 173880 h 855720"/>
              <a:gd name="textAreaBottom" fmla="*/ 681840 h 855720"/>
            </a:gdLst>
            <a:ahLst/>
            <a:rect l="textAreaLeft" t="textAreaTop" r="textAreaRight" b="textAreaBottom"/>
            <a:pathLst>
              <a:path w="792088" h="855538">
                <a:moveTo>
                  <a:pt x="156078" y="237107"/>
                </a:moveTo>
                <a:lnTo>
                  <a:pt x="224401" y="173851"/>
                </a:lnTo>
                <a:lnTo>
                  <a:pt x="396044" y="359243"/>
                </a:lnTo>
                <a:lnTo>
                  <a:pt x="567687" y="173851"/>
                </a:lnTo>
                <a:lnTo>
                  <a:pt x="636010" y="237107"/>
                </a:lnTo>
                <a:lnTo>
                  <a:pt x="459488" y="427769"/>
                </a:lnTo>
                <a:lnTo>
                  <a:pt x="636010" y="618431"/>
                </a:lnTo>
                <a:lnTo>
                  <a:pt x="567687" y="681687"/>
                </a:lnTo>
                <a:lnTo>
                  <a:pt x="396044" y="496295"/>
                </a:lnTo>
                <a:lnTo>
                  <a:pt x="224401" y="681687"/>
                </a:lnTo>
                <a:lnTo>
                  <a:pt x="156078" y="618431"/>
                </a:lnTo>
                <a:lnTo>
                  <a:pt x="332600" y="42776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tle 1"/>
          <p:cNvSpPr/>
          <p:nvPr/>
        </p:nvSpPr>
        <p:spPr>
          <a:xfrm>
            <a:off x="971640" y="-157320"/>
            <a:ext cx="51148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alibri"/>
              </a:rPr>
              <a:t>MSAA Edge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667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4920" y="4422240"/>
            <a:ext cx="5040360" cy="7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icolas.thibieroz@amd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57200" y="1428480"/>
            <a:ext cx="82296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428480"/>
            <a:ext cx="5986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inside the light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GRE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back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nly samples fully inside the volume get sh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ptimal use of early Z cul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need for ste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igh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11"/>
          <p:cNvSpPr/>
          <p:nvPr/>
        </p:nvSpPr>
        <p:spPr>
          <a:xfrm rot="19455600">
            <a:off x="733428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hoto"/>
          <p:cNvSpPr/>
          <p:nvPr/>
        </p:nvSpPr>
        <p:spPr>
          <a:xfrm rot="10800000">
            <a:off x="736920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Dodecagon 13"/>
          <p:cNvSpPr/>
          <p:nvPr/>
        </p:nvSpPr>
        <p:spPr>
          <a:xfrm>
            <a:off x="6227640" y="2351160"/>
            <a:ext cx="5302440" cy="5076720"/>
          </a:xfrm>
          <a:custGeom>
            <a:avLst/>
            <a:gdLst>
              <a:gd name="textAreaLeft" fmla="*/ 710280 w 5302440"/>
              <a:gd name="textAreaRight" fmla="*/ 4592160 w 5302440"/>
              <a:gd name="textAreaTop" fmla="*/ 680040 h 5076720"/>
              <a:gd name="textAreaBottom" fmla="*/ 4396680 h 5076720"/>
            </a:gdLst>
            <a:ahLst/>
            <a:rect l="textAreaLeft" t="textAreaTop" r="textAreaRight" b="textAreaBottom"/>
            <a:pathLst>
              <a:path w="5302250" h="5076825">
                <a:moveTo>
                  <a:pt x="0" y="1858212"/>
                </a:moveTo>
                <a:lnTo>
                  <a:pt x="710403" y="680201"/>
                </a:lnTo>
                <a:lnTo>
                  <a:pt x="1940721" y="0"/>
                </a:lnTo>
                <a:lnTo>
                  <a:pt x="3361528" y="0"/>
                </a:lnTo>
                <a:lnTo>
                  <a:pt x="4591847" y="680201"/>
                </a:lnTo>
                <a:lnTo>
                  <a:pt x="5302250" y="1858212"/>
                </a:lnTo>
                <a:lnTo>
                  <a:pt x="5302250" y="3218613"/>
                </a:lnTo>
                <a:lnTo>
                  <a:pt x="4591847" y="4396625"/>
                </a:lnTo>
                <a:lnTo>
                  <a:pt x="3361528" y="5076825"/>
                </a:lnTo>
                <a:lnTo>
                  <a:pt x="1940721" y="5076825"/>
                </a:lnTo>
                <a:lnTo>
                  <a:pt x="710403" y="4396625"/>
                </a:lnTo>
                <a:lnTo>
                  <a:pt x="0" y="3218613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4"/>
          <p:cNvSpPr/>
          <p:nvPr/>
        </p:nvSpPr>
        <p:spPr>
          <a:xfrm flipH="1" flipV="1">
            <a:off x="7156080" y="2859120"/>
            <a:ext cx="82440" cy="380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5"/>
          <p:cNvSpPr/>
          <p:nvPr/>
        </p:nvSpPr>
        <p:spPr>
          <a:xfrm flipV="1">
            <a:off x="7990920" y="2350800"/>
            <a:ext cx="177480" cy="10126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18464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21" name="Straight Connector 17"/>
          <p:cNvSpPr/>
          <p:nvPr/>
        </p:nvSpPr>
        <p:spPr>
          <a:xfrm flipV="1">
            <a:off x="7180200" y="2351160"/>
            <a:ext cx="988920" cy="52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rapezoid 18"/>
          <p:cNvSpPr/>
          <p:nvPr/>
        </p:nvSpPr>
        <p:spPr>
          <a:xfrm rot="10800000">
            <a:off x="631188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24" name="Rectangle 20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25" name="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Straight Connector 21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23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428480"/>
            <a:ext cx="5915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evious optimization does not work if camera is outsid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 faces also pass the Z=GREATER test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ose objects shouldn’t be l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results in wasted processing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34" name="Rectangle 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35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Straight Connector 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 rot="19455600">
            <a:off x="7331040" y="3865320"/>
            <a:ext cx="527040" cy="492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hoto"/>
          <p:cNvSpPr/>
          <p:nvPr/>
        </p:nvSpPr>
        <p:spPr>
          <a:xfrm rot="10800000">
            <a:off x="7345440" y="4632480"/>
            <a:ext cx="573120" cy="46008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440 h 460080"/>
              <a:gd name="textAreaBottom" fmla="*/ 645480 h 460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odecagon 11"/>
          <p:cNvSpPr/>
          <p:nvPr/>
        </p:nvSpPr>
        <p:spPr>
          <a:xfrm>
            <a:off x="6408720" y="1477800"/>
            <a:ext cx="2433600" cy="223704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7040"/>
              <a:gd name="textAreaBottom" fmla="*/ 1937520 h 223704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12"/>
          <p:cNvSpPr/>
          <p:nvPr/>
        </p:nvSpPr>
        <p:spPr>
          <a:xfrm flipV="1">
            <a:off x="7299360" y="1476360"/>
            <a:ext cx="6523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13"/>
          <p:cNvSpPr/>
          <p:nvPr/>
        </p:nvSpPr>
        <p:spPr>
          <a:xfrm flipH="1" flipV="1">
            <a:off x="6734160" y="1777680"/>
            <a:ext cx="480960" cy="233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4"/>
          <p:cNvSpPr/>
          <p:nvPr/>
        </p:nvSpPr>
        <p:spPr>
          <a:xfrm flipV="1">
            <a:off x="7956000" y="1709280"/>
            <a:ext cx="430200" cy="2467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5"/>
          <p:cNvSpPr/>
          <p:nvPr/>
        </p:nvSpPr>
        <p:spPr>
          <a:xfrm flipV="1">
            <a:off x="6734160" y="1469520"/>
            <a:ext cx="590400" cy="298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16"/>
          <p:cNvSpPr/>
          <p:nvPr/>
        </p:nvSpPr>
        <p:spPr>
          <a:xfrm flipH="1" flipV="1">
            <a:off x="7941960" y="1476000"/>
            <a:ext cx="460440" cy="2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ultiply 17"/>
          <p:cNvSpPr/>
          <p:nvPr/>
        </p:nvSpPr>
        <p:spPr>
          <a:xfrm>
            <a:off x="8109000" y="415620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rapezoid 18"/>
          <p:cNvSpPr/>
          <p:nvPr/>
        </p:nvSpPr>
        <p:spPr>
          <a:xfrm rot="10800000">
            <a:off x="6288120" y="1418760"/>
            <a:ext cx="2665440" cy="308772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3400 h 3087720"/>
              <a:gd name="textAreaBottom" fmla="*/ 3088080 h 3087720"/>
            </a:gdLst>
            <a:ahLst/>
            <a:rect l="textAreaLeft" t="textAreaTop" r="textAreaRight" b="textAreaBottom"/>
            <a:pathLst>
              <a:path w="2665412" h="3086620">
                <a:moveTo>
                  <a:pt x="0" y="3086620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8662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3"/>
          <p:cNvSpPr/>
          <p:nvPr/>
        </p:nvSpPr>
        <p:spPr>
          <a:xfrm rot="19455600">
            <a:off x="7318440" y="3020760"/>
            <a:ext cx="5684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hoto"/>
          <p:cNvSpPr/>
          <p:nvPr/>
        </p:nvSpPr>
        <p:spPr>
          <a:xfrm rot="10800000">
            <a:off x="735336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odecagon 5"/>
          <p:cNvSpPr/>
          <p:nvPr/>
        </p:nvSpPr>
        <p:spPr>
          <a:xfrm>
            <a:off x="6416640" y="60480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4000" y="4227480"/>
            <a:ext cx="795240" cy="83520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7"/>
          <p:cNvSpPr/>
          <p:nvPr/>
        </p:nvSpPr>
        <p:spPr>
          <a:xfrm flipH="1" flipV="1">
            <a:off x="7089840" y="2720880"/>
            <a:ext cx="133200" cy="5191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8"/>
          <p:cNvSpPr/>
          <p:nvPr/>
        </p:nvSpPr>
        <p:spPr>
          <a:xfrm flipV="1">
            <a:off x="7975440" y="2779200"/>
            <a:ext cx="115920" cy="5842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9"/>
          <p:cNvSpPr/>
          <p:nvPr/>
        </p:nvSpPr>
        <p:spPr>
          <a:xfrm>
            <a:off x="7307280" y="2841480"/>
            <a:ext cx="652320" cy="1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10"/>
          <p:cNvSpPr/>
          <p:nvPr/>
        </p:nvSpPr>
        <p:spPr>
          <a:xfrm>
            <a:off x="7094520" y="2739960"/>
            <a:ext cx="212760" cy="101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11"/>
          <p:cNvSpPr/>
          <p:nvPr/>
        </p:nvSpPr>
        <p:spPr>
          <a:xfrm flipV="1">
            <a:off x="7959600" y="2766600"/>
            <a:ext cx="138240" cy="74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rapezoid 12"/>
          <p:cNvSpPr/>
          <p:nvPr/>
        </p:nvSpPr>
        <p:spPr>
          <a:xfrm rot="10800000">
            <a:off x="6296040" y="1419120"/>
            <a:ext cx="2665440" cy="307656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6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64" name="Rectangl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6840" y="1428480"/>
            <a:ext cx="641844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terna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n camera is outside the light volum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Z Mode = LESS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’s front 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lves the case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n front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volu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ut generates wasted processing for objects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behi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he volu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473" name="Rectangle 1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474" name="Rectangle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Straight Connector 1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Straight Connector 1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Z culling Optimizations 2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19"/>
          <p:cNvSpPr/>
          <p:nvPr/>
        </p:nvSpPr>
        <p:spPr>
          <a:xfrm rot="17821800">
            <a:off x="8018640" y="1630080"/>
            <a:ext cx="566640" cy="5508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hoto"/>
          <p:cNvSpPr/>
          <p:nvPr/>
        </p:nvSpPr>
        <p:spPr>
          <a:xfrm rot="10800000">
            <a:off x="7345440" y="463824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odecagon 22"/>
          <p:cNvSpPr/>
          <p:nvPr/>
        </p:nvSpPr>
        <p:spPr>
          <a:xfrm>
            <a:off x="6659640" y="2147760"/>
            <a:ext cx="2016000" cy="1936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259200 h 1936800"/>
              <a:gd name="textAreaBottom" fmla="*/ 1677600 h 1936800"/>
            </a:gdLst>
            <a:ahLst/>
            <a:rect l="textAreaLeft" t="textAreaTop" r="textAreaRight" b="textAreaBottom"/>
            <a:pathLst>
              <a:path w="2016224" h="1936278">
                <a:moveTo>
                  <a:pt x="0" y="708714"/>
                </a:moveTo>
                <a:lnTo>
                  <a:pt x="270137" y="259425"/>
                </a:lnTo>
                <a:lnTo>
                  <a:pt x="737975" y="0"/>
                </a:lnTo>
                <a:lnTo>
                  <a:pt x="1278249" y="0"/>
                </a:lnTo>
                <a:lnTo>
                  <a:pt x="1746087" y="259425"/>
                </a:lnTo>
                <a:lnTo>
                  <a:pt x="2016224" y="708714"/>
                </a:lnTo>
                <a:lnTo>
                  <a:pt x="2016224" y="1227564"/>
                </a:lnTo>
                <a:lnTo>
                  <a:pt x="1746087" y="1676853"/>
                </a:lnTo>
                <a:lnTo>
                  <a:pt x="1278249" y="1936278"/>
                </a:lnTo>
                <a:lnTo>
                  <a:pt x="737975" y="1936278"/>
                </a:lnTo>
                <a:lnTo>
                  <a:pt x="270137" y="1676853"/>
                </a:lnTo>
                <a:lnTo>
                  <a:pt x="0" y="1227564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3"/>
          <p:cNvSpPr/>
          <p:nvPr/>
        </p:nvSpPr>
        <p:spPr>
          <a:xfrm flipV="1">
            <a:off x="7667640" y="2066400"/>
            <a:ext cx="279360" cy="20178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4"/>
          <p:cNvSpPr/>
          <p:nvPr/>
        </p:nvSpPr>
        <p:spPr>
          <a:xfrm flipV="1">
            <a:off x="7939080" y="1779120"/>
            <a:ext cx="736560" cy="23050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5"/>
          <p:cNvSpPr/>
          <p:nvPr/>
        </p:nvSpPr>
        <p:spPr>
          <a:xfrm flipV="1">
            <a:off x="7667640" y="4084560"/>
            <a:ext cx="271440" cy="6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Multiply 27"/>
          <p:cNvSpPr/>
          <p:nvPr/>
        </p:nvSpPr>
        <p:spPr>
          <a:xfrm>
            <a:off x="8101080" y="4164120"/>
            <a:ext cx="1071360" cy="1071360"/>
          </a:xfrm>
          <a:custGeom>
            <a:avLst/>
            <a:gdLst>
              <a:gd name="textAreaLeft" fmla="*/ 212760 w 1071360"/>
              <a:gd name="textAreaRight" fmla="*/ 858600 w 1071360"/>
              <a:gd name="textAreaTop" fmla="*/ 212760 h 1071360"/>
              <a:gd name="textAreaBottom" fmla="*/ 858600 h 1071360"/>
            </a:gdLst>
            <a:ahLst/>
            <a:rect l="textAreaLeft" t="textAreaTop" r="textAreaRight" b="textAreaBottom"/>
            <a:pathLst>
              <a:path w="1071562" h="1071562">
                <a:moveTo>
                  <a:pt x="212828" y="301897"/>
                </a:moveTo>
                <a:lnTo>
                  <a:pt x="301897" y="212828"/>
                </a:lnTo>
                <a:lnTo>
                  <a:pt x="535781" y="446712"/>
                </a:lnTo>
                <a:lnTo>
                  <a:pt x="769665" y="212828"/>
                </a:lnTo>
                <a:lnTo>
                  <a:pt x="858734" y="301897"/>
                </a:lnTo>
                <a:lnTo>
                  <a:pt x="624850" y="535781"/>
                </a:lnTo>
                <a:lnTo>
                  <a:pt x="858734" y="769665"/>
                </a:lnTo>
                <a:lnTo>
                  <a:pt x="769665" y="858734"/>
                </a:lnTo>
                <a:lnTo>
                  <a:pt x="535781" y="624850"/>
                </a:lnTo>
                <a:lnTo>
                  <a:pt x="301897" y="858734"/>
                </a:lnTo>
                <a:lnTo>
                  <a:pt x="212828" y="769665"/>
                </a:lnTo>
                <a:lnTo>
                  <a:pt x="446712" y="5357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rapezoid 28"/>
          <p:cNvSpPr/>
          <p:nvPr/>
        </p:nvSpPr>
        <p:spPr>
          <a:xfrm rot="10800000">
            <a:off x="6288120" y="1418760"/>
            <a:ext cx="2665440" cy="3094200"/>
          </a:xfrm>
          <a:custGeom>
            <a:avLst/>
            <a:gdLst>
              <a:gd name="textAreaLeft" fmla="*/ 486360 w 2665440"/>
              <a:gd name="textAreaRight" fmla="*/ 2179080 w 2665440"/>
              <a:gd name="textAreaTop" fmla="*/ 564480 h 3094200"/>
              <a:gd name="textAreaBottom" fmla="*/ 3094560 h 3094200"/>
            </a:gdLst>
            <a:ahLst/>
            <a:rect l="textAreaLeft" t="textAreaTop" r="textAreaRight" b="textAreaBottom"/>
            <a:pathLst>
              <a:path w="2665412" h="3093282">
                <a:moveTo>
                  <a:pt x="0" y="3093282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93282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ully Deferred Engi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ding P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40"/>
          <p:cNvSpPr/>
          <p:nvPr/>
        </p:nvSpPr>
        <p:spPr>
          <a:xfrm>
            <a:off x="3492360" y="4371840"/>
            <a:ext cx="57492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1"/>
          <p:cNvSpPr/>
          <p:nvPr/>
        </p:nvSpPr>
        <p:spPr>
          <a:xfrm>
            <a:off x="3348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ight Arrow 42"/>
          <p:cNvSpPr/>
          <p:nvPr/>
        </p:nvSpPr>
        <p:spPr>
          <a:xfrm>
            <a:off x="4317840" y="3651120"/>
            <a:ext cx="398520" cy="28908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ight Arrow 43"/>
          <p:cNvSpPr/>
          <p:nvPr/>
        </p:nvSpPr>
        <p:spPr>
          <a:xfrm>
            <a:off x="4317840" y="4516560"/>
            <a:ext cx="398520" cy="287280"/>
          </a:xfrm>
          <a:prstGeom prst="rightArrow">
            <a:avLst>
              <a:gd name="adj1" fmla="val 50000"/>
              <a:gd name="adj2" fmla="val 502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Up Arrow 44"/>
          <p:cNvSpPr/>
          <p:nvPr/>
        </p:nvSpPr>
        <p:spPr>
          <a:xfrm>
            <a:off x="5148360" y="2932200"/>
            <a:ext cx="215640" cy="431640"/>
          </a:xfrm>
          <a:prstGeom prst="up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Up Arrow 45"/>
          <p:cNvSpPr/>
          <p:nvPr/>
        </p:nvSpPr>
        <p:spPr>
          <a:xfrm>
            <a:off x="665964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be 53"/>
          <p:cNvSpPr/>
          <p:nvPr/>
        </p:nvSpPr>
        <p:spPr>
          <a:xfrm>
            <a:off x="6199200" y="3651120"/>
            <a:ext cx="647640" cy="6494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4"/>
          <p:cNvSpPr/>
          <p:nvPr/>
        </p:nvSpPr>
        <p:spPr>
          <a:xfrm>
            <a:off x="5767560" y="3940200"/>
            <a:ext cx="86328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-Shape 55"/>
          <p:cNvSpPr/>
          <p:nvPr/>
        </p:nvSpPr>
        <p:spPr>
          <a:xfrm>
            <a:off x="5705640" y="3838680"/>
            <a:ext cx="1008000" cy="955440"/>
          </a:xfrm>
          <a:custGeom>
            <a:avLst/>
            <a:gdLst>
              <a:gd name="textAreaLeft" fmla="*/ 0 w 1008000"/>
              <a:gd name="textAreaRight" fmla="*/ 1008360 w 1008000"/>
              <a:gd name="textAreaTop" fmla="*/ 477720 h 955440"/>
              <a:gd name="textAreaBottom" fmla="*/ 955800 h 95544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sosceles Triangle 46"/>
          <p:cNvSpPr/>
          <p:nvPr/>
        </p:nvSpPr>
        <p:spPr>
          <a:xfrm rot="20605800">
            <a:off x="5388120" y="405612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Isosceles Triangle 47"/>
          <p:cNvSpPr/>
          <p:nvPr/>
        </p:nvSpPr>
        <p:spPr>
          <a:xfrm rot="1231800">
            <a:off x="5148360" y="405756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8"/>
          <p:cNvSpPr/>
          <p:nvPr/>
        </p:nvSpPr>
        <p:spPr>
          <a:xfrm>
            <a:off x="5545080" y="4334040"/>
            <a:ext cx="574560" cy="57600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Isosceles Triangle 49"/>
          <p:cNvSpPr/>
          <p:nvPr/>
        </p:nvSpPr>
        <p:spPr>
          <a:xfrm rot="18255600">
            <a:off x="5640120" y="4030560"/>
            <a:ext cx="63504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50"/>
          <p:cNvSpPr/>
          <p:nvPr/>
        </p:nvSpPr>
        <p:spPr>
          <a:xfrm rot="16200000">
            <a:off x="5391000" y="446076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7"/>
          <p:cNvSpPr/>
          <p:nvPr/>
        </p:nvSpPr>
        <p:spPr>
          <a:xfrm>
            <a:off x="6443640" y="1276200"/>
            <a:ext cx="223200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Isosceles Triangle 58"/>
          <p:cNvGrpSpPr/>
          <p:nvPr/>
        </p:nvGrpSpPr>
        <p:grpSpPr>
          <a:xfrm>
            <a:off x="7010280" y="1841400"/>
            <a:ext cx="463680" cy="749520"/>
            <a:chOff x="7010280" y="1841400"/>
            <a:chExt cx="463680" cy="749520"/>
          </a:xfrm>
        </p:grpSpPr>
        <p:pic>
          <p:nvPicPr>
            <p:cNvPr id="113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01028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20605800">
              <a:off x="7075440" y="2178000"/>
              <a:ext cx="2174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Isosceles Triangle 59"/>
          <p:cNvGrpSpPr/>
          <p:nvPr/>
        </p:nvGrpSpPr>
        <p:grpSpPr>
          <a:xfrm>
            <a:off x="6572160" y="1835280"/>
            <a:ext cx="487440" cy="755640"/>
            <a:chOff x="6572160" y="1835280"/>
            <a:chExt cx="487440" cy="755640"/>
          </a:xfrm>
        </p:grpSpPr>
        <p:pic>
          <p:nvPicPr>
            <p:cNvPr id="116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57216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 rot="1231800">
              <a:off x="6740280" y="216036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Cube 60"/>
          <p:cNvGrpSpPr/>
          <p:nvPr/>
        </p:nvGrpSpPr>
        <p:grpSpPr>
          <a:xfrm>
            <a:off x="7723080" y="1401840"/>
            <a:ext cx="682560" cy="682560"/>
            <a:chOff x="7723080" y="1401840"/>
            <a:chExt cx="682560" cy="682560"/>
          </a:xfrm>
        </p:grpSpPr>
        <p:pic>
          <p:nvPicPr>
            <p:cNvPr id="119" name="Cube 60" descr=""/>
            <p:cNvPicPr/>
            <p:nvPr/>
          </p:nvPicPr>
          <p:blipFill>
            <a:blip r:embed="rId3"/>
            <a:stretch/>
          </p:blipFill>
          <p:spPr>
            <a:xfrm>
              <a:off x="772308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7740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61"/>
          <p:cNvSpPr/>
          <p:nvPr/>
        </p:nvSpPr>
        <p:spPr>
          <a:xfrm>
            <a:off x="637236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2"/>
          <p:cNvSpPr/>
          <p:nvPr/>
        </p:nvSpPr>
        <p:spPr>
          <a:xfrm>
            <a:off x="4859280" y="3508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um.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3348000" y="1276200"/>
            <a:ext cx="2232000" cy="1366920"/>
            <a:chOff x="3348000" y="1276200"/>
            <a:chExt cx="2232000" cy="1366920"/>
          </a:xfrm>
        </p:grpSpPr>
        <p:sp>
          <p:nvSpPr>
            <p:cNvPr id="124" name="Rectangle 64"/>
            <p:cNvSpPr/>
            <p:nvPr/>
          </p:nvSpPr>
          <p:spPr>
            <a:xfrm>
              <a:off x="334800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65"/>
            <p:cNvSpPr/>
            <p:nvPr/>
          </p:nvSpPr>
          <p:spPr>
            <a:xfrm rot="20605800">
              <a:off x="3833280" y="1840680"/>
              <a:ext cx="434520" cy="68220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Isosceles Triangle 66"/>
            <p:cNvSpPr/>
            <p:nvPr/>
          </p:nvSpPr>
          <p:spPr>
            <a:xfrm rot="1231800">
              <a:off x="3592800" y="1843200"/>
              <a:ext cx="482040" cy="66456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ube 67"/>
            <p:cNvSpPr/>
            <p:nvPr/>
          </p:nvSpPr>
          <p:spPr>
            <a:xfrm>
              <a:off x="464400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bfbfb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68"/>
          <p:cNvSpPr/>
          <p:nvPr/>
        </p:nvSpPr>
        <p:spPr>
          <a:xfrm>
            <a:off x="237492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2844720" y="1495440"/>
            <a:ext cx="2232000" cy="1368360"/>
            <a:chOff x="2844720" y="1495440"/>
            <a:chExt cx="2232000" cy="1368360"/>
          </a:xfrm>
        </p:grpSpPr>
        <p:sp>
          <p:nvSpPr>
            <p:cNvPr id="130" name="Rectangle 70"/>
            <p:cNvSpPr/>
            <p:nvPr/>
          </p:nvSpPr>
          <p:spPr>
            <a:xfrm>
              <a:off x="2844720" y="149544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Isosceles Triangle 71"/>
            <p:cNvGrpSpPr/>
            <p:nvPr/>
          </p:nvGrpSpPr>
          <p:grpSpPr>
            <a:xfrm>
              <a:off x="3407400" y="2060280"/>
              <a:ext cx="462960" cy="749880"/>
              <a:chOff x="3407400" y="2060280"/>
              <a:chExt cx="462960" cy="749880"/>
            </a:xfrm>
          </p:grpSpPr>
          <p:pic>
            <p:nvPicPr>
              <p:cNvPr id="132" name="Isosceles Triangle 7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07400" y="2060280"/>
                <a:ext cx="462960" cy="74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20605800">
                <a:off x="3475800" y="2398680"/>
                <a:ext cx="2170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Isosceles Triangle 72"/>
            <p:cNvGrpSpPr/>
            <p:nvPr/>
          </p:nvGrpSpPr>
          <p:grpSpPr>
            <a:xfrm>
              <a:off x="2968560" y="2054160"/>
              <a:ext cx="487440" cy="756000"/>
              <a:chOff x="2968560" y="2054160"/>
              <a:chExt cx="487440" cy="756000"/>
            </a:xfrm>
          </p:grpSpPr>
          <p:pic>
            <p:nvPicPr>
              <p:cNvPr id="135" name="Isosceles Triangle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2968560" y="2054160"/>
                <a:ext cx="4874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 rot="1231800">
                <a:off x="3139560" y="2380320"/>
                <a:ext cx="24084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Cube 73"/>
            <p:cNvSpPr/>
            <p:nvPr/>
          </p:nvSpPr>
          <p:spPr>
            <a:xfrm>
              <a:off x="4140720" y="163944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4"/>
            <p:cNvSpPr/>
            <p:nvPr/>
          </p:nvSpPr>
          <p:spPr>
            <a:xfrm>
              <a:off x="4138200" y="1816200"/>
              <a:ext cx="484920" cy="48492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Parallelogram 75"/>
            <p:cNvGrpSpPr/>
            <p:nvPr/>
          </p:nvGrpSpPr>
          <p:grpSpPr>
            <a:xfrm>
              <a:off x="4114800" y="1621080"/>
              <a:ext cx="725400" cy="207000"/>
              <a:chOff x="4114800" y="1621080"/>
              <a:chExt cx="725400" cy="207000"/>
            </a:xfrm>
          </p:grpSpPr>
          <p:pic>
            <p:nvPicPr>
              <p:cNvPr id="140" name="Parallelogram 75" descr=""/>
              <p:cNvPicPr/>
              <p:nvPr/>
            </p:nvPicPr>
            <p:blipFill>
              <a:blip r:embed="rId6"/>
              <a:stretch/>
            </p:blipFill>
            <p:spPr>
              <a:xfrm>
                <a:off x="4114800" y="1621080"/>
                <a:ext cx="72540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4258800" y="166860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Parallelogram 76"/>
            <p:cNvSpPr/>
            <p:nvPr/>
          </p:nvSpPr>
          <p:spPr>
            <a:xfrm flipH="1" rot="16200000">
              <a:off x="4397400" y="1871640"/>
              <a:ext cx="654120" cy="199800"/>
            </a:xfrm>
            <a:prstGeom prst="parallelogram">
              <a:avLst>
                <a:gd name="adj" fmla="val 94624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2340000" y="1708200"/>
            <a:ext cx="2232000" cy="1368360"/>
            <a:chOff x="2340000" y="1708200"/>
            <a:chExt cx="2232000" cy="1368360"/>
          </a:xfrm>
        </p:grpSpPr>
        <p:sp>
          <p:nvSpPr>
            <p:cNvPr id="144" name="Rectangle 78"/>
            <p:cNvSpPr/>
            <p:nvPr/>
          </p:nvSpPr>
          <p:spPr>
            <a:xfrm>
              <a:off x="2340000" y="1708200"/>
              <a:ext cx="2232000" cy="136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Isosceles Triangle 79"/>
            <p:cNvSpPr/>
            <p:nvPr/>
          </p:nvSpPr>
          <p:spPr>
            <a:xfrm rot="20605800">
              <a:off x="2825280" y="2273400"/>
              <a:ext cx="434520" cy="68292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Isosceles Triangle 80"/>
            <p:cNvSpPr/>
            <p:nvPr/>
          </p:nvSpPr>
          <p:spPr>
            <a:xfrm rot="1231800">
              <a:off x="2585160" y="2275920"/>
              <a:ext cx="482040" cy="665280"/>
            </a:xfrm>
            <a:prstGeom prst="triangle">
              <a:avLst>
                <a:gd name="adj" fmla="val 4473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ube 81"/>
            <p:cNvSpPr/>
            <p:nvPr/>
          </p:nvSpPr>
          <p:spPr>
            <a:xfrm>
              <a:off x="3636000" y="1852200"/>
              <a:ext cx="648000" cy="648000"/>
            </a:xfrm>
            <a:prstGeom prst="cube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b66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82"/>
          <p:cNvSpPr/>
          <p:nvPr/>
        </p:nvSpPr>
        <p:spPr>
          <a:xfrm>
            <a:off x="2301840" y="17208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G-Buffer M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4932360" y="3508200"/>
            <a:ext cx="2232000" cy="1366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4920" y="3219480"/>
            <a:ext cx="3097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dd lighting contribu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to accumulation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G-Buffer RTs as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Volume Rendering</a:t>
            </a: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stencil culling Optim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6840" y="1428480"/>
            <a:ext cx="569916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encil can be used to mark samples inside the light vol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volume with stencil-only pas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lear stencil to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Z Mode = LESS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f depth test fail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ment stencil for back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crement stencil for front fa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some geometry where stencil != 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hoto"/>
          <p:cNvSpPr/>
          <p:nvPr/>
        </p:nvSpPr>
        <p:spPr>
          <a:xfrm rot="10800000">
            <a:off x="7157880" y="4620960"/>
            <a:ext cx="573120" cy="460440"/>
          </a:xfrm>
          <a:custGeom>
            <a:avLst/>
            <a:gdLst>
              <a:gd name="textAreaLeft" fmla="*/ 20160 w 573120"/>
              <a:gd name="textAreaRight" fmla="*/ 559080 w 573120"/>
              <a:gd name="textAreaTop" fmla="*/ 478800 h 460440"/>
              <a:gd name="textAreaBottom" fmla="*/ 645840 h 46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3085"/>
                </a:lnTo>
                <a:lnTo>
                  <a:pt x="1542" y="3085"/>
                </a:lnTo>
                <a:lnTo>
                  <a:pt x="1542" y="1028"/>
                </a:lnTo>
                <a:lnTo>
                  <a:pt x="3857" y="1028"/>
                </a:lnTo>
                <a:lnTo>
                  <a:pt x="3857" y="3085"/>
                </a:lnTo>
                <a:lnTo>
                  <a:pt x="5400" y="3085"/>
                </a:lnTo>
                <a:lnTo>
                  <a:pt x="6942" y="0"/>
                </a:lnTo>
                <a:lnTo>
                  <a:pt x="14657" y="0"/>
                </a:lnTo>
                <a:lnTo>
                  <a:pt x="16200" y="3085"/>
                </a:ln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0" y="3085"/>
                </a:moveTo>
                <a:lnTo>
                  <a:pt x="21600" y="3085"/>
                </a:lnTo>
                <a:lnTo>
                  <a:pt x="21600" y="21600"/>
                </a:lnTo>
                <a:lnTo>
                  <a:pt x="0" y="21600"/>
                </a:lnTo>
                <a:lnTo>
                  <a:pt x="0" y="3085"/>
                </a:lnTo>
                <a:close/>
              </a:path>
              <a:path w="21600" h="21600">
                <a:moveTo>
                  <a:pt x="10800" y="4800"/>
                </a:moveTo>
                <a:lnTo>
                  <a:pt x="11925" y="4971"/>
                </a:lnTo>
                <a:lnTo>
                  <a:pt x="13017" y="5442"/>
                </a:lnTo>
                <a:lnTo>
                  <a:pt x="14046" y="6128"/>
                </a:lnTo>
                <a:lnTo>
                  <a:pt x="14914" y="7071"/>
                </a:lnTo>
                <a:lnTo>
                  <a:pt x="15621" y="8271"/>
                </a:lnTo>
                <a:lnTo>
                  <a:pt x="16167" y="9514"/>
                </a:lnTo>
                <a:lnTo>
                  <a:pt x="16425" y="11014"/>
                </a:lnTo>
                <a:lnTo>
                  <a:pt x="16585" y="12471"/>
                </a:lnTo>
                <a:lnTo>
                  <a:pt x="16489" y="14014"/>
                </a:lnTo>
                <a:lnTo>
                  <a:pt x="16135" y="15471"/>
                </a:lnTo>
                <a:lnTo>
                  <a:pt x="15621" y="16800"/>
                </a:lnTo>
                <a:lnTo>
                  <a:pt x="14914" y="18000"/>
                </a:lnTo>
                <a:lnTo>
                  <a:pt x="14046" y="18942"/>
                </a:lnTo>
                <a:lnTo>
                  <a:pt x="13050" y="19671"/>
                </a:lnTo>
                <a:lnTo>
                  <a:pt x="11925" y="20057"/>
                </a:lnTo>
                <a:lnTo>
                  <a:pt x="10832" y="20185"/>
                </a:lnTo>
                <a:lnTo>
                  <a:pt x="9675" y="20142"/>
                </a:lnTo>
                <a:lnTo>
                  <a:pt x="8582" y="19628"/>
                </a:lnTo>
                <a:lnTo>
                  <a:pt x="7553" y="18942"/>
                </a:lnTo>
                <a:lnTo>
                  <a:pt x="6717" y="17957"/>
                </a:lnTo>
                <a:lnTo>
                  <a:pt x="5946" y="16842"/>
                </a:lnTo>
                <a:lnTo>
                  <a:pt x="5464" y="15514"/>
                </a:lnTo>
                <a:lnTo>
                  <a:pt x="5078" y="14014"/>
                </a:lnTo>
                <a:lnTo>
                  <a:pt x="5014" y="12514"/>
                </a:lnTo>
                <a:lnTo>
                  <a:pt x="5110" y="11014"/>
                </a:lnTo>
                <a:lnTo>
                  <a:pt x="5528" y="9557"/>
                </a:lnTo>
                <a:lnTo>
                  <a:pt x="6010" y="8228"/>
                </a:lnTo>
                <a:lnTo>
                  <a:pt x="6750" y="7114"/>
                </a:lnTo>
                <a:lnTo>
                  <a:pt x="7650" y="6085"/>
                </a:lnTo>
                <a:lnTo>
                  <a:pt x="8614" y="5400"/>
                </a:lnTo>
                <a:lnTo>
                  <a:pt x="9707" y="4971"/>
                </a:lnTo>
                <a:lnTo>
                  <a:pt x="10800" y="4800"/>
                </a:lnTo>
                <a:close/>
              </a:path>
              <a:path w="21600" h="21600">
                <a:moveTo>
                  <a:pt x="8003" y="8057"/>
                </a:moveTo>
                <a:lnTo>
                  <a:pt x="8807" y="7371"/>
                </a:lnTo>
                <a:lnTo>
                  <a:pt x="9546" y="6985"/>
                </a:lnTo>
                <a:lnTo>
                  <a:pt x="10446" y="6771"/>
                </a:lnTo>
                <a:lnTo>
                  <a:pt x="11217" y="6771"/>
                </a:lnTo>
                <a:lnTo>
                  <a:pt x="12053" y="7028"/>
                </a:lnTo>
                <a:lnTo>
                  <a:pt x="12889" y="7457"/>
                </a:lnTo>
                <a:lnTo>
                  <a:pt x="13628" y="8100"/>
                </a:lnTo>
                <a:lnTo>
                  <a:pt x="14175" y="8871"/>
                </a:lnTo>
                <a:lnTo>
                  <a:pt x="14625" y="9814"/>
                </a:lnTo>
                <a:lnTo>
                  <a:pt x="14978" y="10885"/>
                </a:lnTo>
                <a:lnTo>
                  <a:pt x="15171" y="12042"/>
                </a:lnTo>
                <a:lnTo>
                  <a:pt x="15107" y="13114"/>
                </a:lnTo>
                <a:lnTo>
                  <a:pt x="15042" y="14228"/>
                </a:lnTo>
                <a:lnTo>
                  <a:pt x="14689" y="15257"/>
                </a:lnTo>
                <a:lnTo>
                  <a:pt x="14207" y="16285"/>
                </a:lnTo>
                <a:lnTo>
                  <a:pt x="13596" y="17057"/>
                </a:lnTo>
                <a:lnTo>
                  <a:pt x="12889" y="17657"/>
                </a:lnTo>
                <a:lnTo>
                  <a:pt x="12053" y="18085"/>
                </a:lnTo>
                <a:lnTo>
                  <a:pt x="11185" y="18257"/>
                </a:lnTo>
                <a:lnTo>
                  <a:pt x="10414" y="18214"/>
                </a:lnTo>
                <a:lnTo>
                  <a:pt x="9546" y="18042"/>
                </a:lnTo>
                <a:lnTo>
                  <a:pt x="8742" y="17614"/>
                </a:lnTo>
                <a:lnTo>
                  <a:pt x="8003" y="17014"/>
                </a:lnTo>
                <a:lnTo>
                  <a:pt x="7457" y="16242"/>
                </a:lnTo>
                <a:lnTo>
                  <a:pt x="6975" y="15257"/>
                </a:lnTo>
                <a:lnTo>
                  <a:pt x="6653" y="14142"/>
                </a:lnTo>
                <a:lnTo>
                  <a:pt x="6492" y="13114"/>
                </a:lnTo>
                <a:lnTo>
                  <a:pt x="6525" y="11914"/>
                </a:lnTo>
                <a:lnTo>
                  <a:pt x="6621" y="10842"/>
                </a:lnTo>
                <a:lnTo>
                  <a:pt x="6942" y="9771"/>
                </a:lnTo>
                <a:lnTo>
                  <a:pt x="7457" y="8785"/>
                </a:lnTo>
                <a:lnTo>
                  <a:pt x="8003" y="8057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Dodecagon 4"/>
          <p:cNvSpPr/>
          <p:nvPr/>
        </p:nvSpPr>
        <p:spPr>
          <a:xfrm>
            <a:off x="6221520" y="1522440"/>
            <a:ext cx="2433600" cy="2236680"/>
          </a:xfrm>
          <a:custGeom>
            <a:avLst/>
            <a:gdLst>
              <a:gd name="textAreaLeft" fmla="*/ 325800 w 2433600"/>
              <a:gd name="textAreaRight" fmla="*/ 2107800 w 2433600"/>
              <a:gd name="textAreaTop" fmla="*/ 299520 h 2236680"/>
              <a:gd name="textAreaBottom" fmla="*/ 1937160 h 2236680"/>
            </a:gdLst>
            <a:ahLst/>
            <a:rect l="textAreaLeft" t="textAreaTop" r="textAreaRight" b="textAreaBottom"/>
            <a:pathLst>
              <a:path w="2433637" h="2236788">
                <a:moveTo>
                  <a:pt x="0" y="818706"/>
                </a:moveTo>
                <a:lnTo>
                  <a:pt x="326062" y="299688"/>
                </a:lnTo>
                <a:lnTo>
                  <a:pt x="890756" y="0"/>
                </a:lnTo>
                <a:lnTo>
                  <a:pt x="1542881" y="0"/>
                </a:lnTo>
                <a:lnTo>
                  <a:pt x="2107575" y="299688"/>
                </a:lnTo>
                <a:lnTo>
                  <a:pt x="2433637" y="818706"/>
                </a:lnTo>
                <a:lnTo>
                  <a:pt x="2433637" y="1418082"/>
                </a:lnTo>
                <a:lnTo>
                  <a:pt x="2107575" y="1937100"/>
                </a:lnTo>
                <a:lnTo>
                  <a:pt x="1542881" y="2236788"/>
                </a:lnTo>
                <a:lnTo>
                  <a:pt x="890756" y="2236788"/>
                </a:lnTo>
                <a:lnTo>
                  <a:pt x="326062" y="1937100"/>
                </a:lnTo>
                <a:lnTo>
                  <a:pt x="0" y="1418082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5"/>
          <p:cNvSpPr/>
          <p:nvPr/>
        </p:nvSpPr>
        <p:spPr>
          <a:xfrm flipV="1">
            <a:off x="8087760" y="2037960"/>
            <a:ext cx="345960" cy="206532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 rot="20250600">
            <a:off x="6575400" y="2044800"/>
            <a:ext cx="385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7"/>
          <p:cNvSpPr/>
          <p:nvPr/>
        </p:nvSpPr>
        <p:spPr>
          <a:xfrm rot="2115600">
            <a:off x="7622640" y="3933720"/>
            <a:ext cx="389160" cy="438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8"/>
          <p:cNvSpPr/>
          <p:nvPr/>
        </p:nvSpPr>
        <p:spPr>
          <a:xfrm flipV="1">
            <a:off x="7524000" y="1491840"/>
            <a:ext cx="212760" cy="269244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rapezoid 9"/>
          <p:cNvSpPr/>
          <p:nvPr/>
        </p:nvSpPr>
        <p:spPr>
          <a:xfrm rot="10800000">
            <a:off x="6100560" y="1419120"/>
            <a:ext cx="2665080" cy="3076560"/>
          </a:xfrm>
          <a:custGeom>
            <a:avLst/>
            <a:gdLst>
              <a:gd name="textAreaLeft" fmla="*/ 486360 w 2665080"/>
              <a:gd name="textAreaRight" fmla="*/ 2178720 w 2665080"/>
              <a:gd name="textAreaTop" fmla="*/ 561240 h 3076560"/>
              <a:gd name="textAreaBottom" fmla="*/ 3076920 h 3076560"/>
            </a:gdLst>
            <a:ahLst/>
            <a:rect l="textAreaLeft" t="textAreaTop" r="textAreaRight" b="textAreaBottom"/>
            <a:pathLst>
              <a:path w="2665412" h="3076526">
                <a:moveTo>
                  <a:pt x="0" y="3076526"/>
                </a:moveTo>
                <a:lnTo>
                  <a:pt x="729630" y="0"/>
                </a:lnTo>
                <a:lnTo>
                  <a:pt x="1935782" y="0"/>
                </a:lnTo>
                <a:lnTo>
                  <a:pt x="2665412" y="307652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10"/>
          <p:cNvSpPr/>
          <p:nvPr/>
        </p:nvSpPr>
        <p:spPr>
          <a:xfrm flipV="1">
            <a:off x="7580160" y="3759120"/>
            <a:ext cx="184320" cy="158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11"/>
          <p:cNvSpPr/>
          <p:nvPr/>
        </p:nvSpPr>
        <p:spPr>
          <a:xfrm flipV="1">
            <a:off x="7763760" y="3551040"/>
            <a:ext cx="415800" cy="207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12"/>
          <p:cNvSpPr/>
          <p:nvPr/>
        </p:nvSpPr>
        <p:spPr>
          <a:xfrm>
            <a:off x="7764480" y="1522440"/>
            <a:ext cx="565200" cy="299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13"/>
          <p:cNvSpPr/>
          <p:nvPr/>
        </p:nvSpPr>
        <p:spPr>
          <a:xfrm>
            <a:off x="8329680" y="1822320"/>
            <a:ext cx="109440" cy="214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53"/>
          <p:cNvSpPr/>
          <p:nvPr/>
        </p:nvSpPr>
        <p:spPr>
          <a:xfrm>
            <a:off x="7974000" y="145080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54"/>
          <p:cNvSpPr/>
          <p:nvPr/>
        </p:nvSpPr>
        <p:spPr>
          <a:xfrm>
            <a:off x="7743960" y="3654360"/>
            <a:ext cx="43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16"/>
          <p:cNvSpPr/>
          <p:nvPr/>
        </p:nvSpPr>
        <p:spPr>
          <a:xfrm flipH="1" flipV="1">
            <a:off x="6475320" y="1917720"/>
            <a:ext cx="287280" cy="165888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17"/>
          <p:cNvSpPr/>
          <p:nvPr/>
        </p:nvSpPr>
        <p:spPr>
          <a:xfrm flipH="1" flipV="1">
            <a:off x="6975360" y="1620720"/>
            <a:ext cx="136800" cy="2138400"/>
          </a:xfrm>
          <a:prstGeom prst="line">
            <a:avLst/>
          </a:prstGeom>
          <a:ln w="28440">
            <a:solidFill>
              <a:srgbClr val="eeece1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18"/>
          <p:cNvSpPr/>
          <p:nvPr/>
        </p:nvSpPr>
        <p:spPr>
          <a:xfrm>
            <a:off x="6761160" y="3592440"/>
            <a:ext cx="351000" cy="1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19"/>
          <p:cNvSpPr/>
          <p:nvPr/>
        </p:nvSpPr>
        <p:spPr>
          <a:xfrm flipV="1">
            <a:off x="6546960" y="1596960"/>
            <a:ext cx="436320" cy="225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0"/>
          <p:cNvSpPr/>
          <p:nvPr/>
        </p:nvSpPr>
        <p:spPr>
          <a:xfrm flipV="1">
            <a:off x="6472080" y="1821960"/>
            <a:ext cx="74880" cy="101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7"/>
          <p:cNvSpPr/>
          <p:nvPr/>
        </p:nvSpPr>
        <p:spPr>
          <a:xfrm>
            <a:off x="6437160" y="1474920"/>
            <a:ext cx="4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C:\Users\nthibieroz\AppData\Local\Microsoft\Windows\Temporary Internet Files\Content.IE5\4DW186H3\MCj04347130000[1].wmf"/>
          <p:cNvPicPr/>
          <p:nvPr/>
        </p:nvPicPr>
        <p:blipFill>
          <a:blip r:embed="rId1"/>
          <a:stretch/>
        </p:blipFill>
        <p:spPr>
          <a:xfrm>
            <a:off x="8240760" y="4184640"/>
            <a:ext cx="795240" cy="835200"/>
          </a:xfrm>
          <a:prstGeom prst="rect">
            <a:avLst/>
          </a:prstGeom>
          <a:ln w="0">
            <a:noFill/>
          </a:ln>
        </p:spPr>
      </p:pic>
      <p:grpSp>
        <p:nvGrpSpPr>
          <p:cNvPr id="511" name="Group 60"/>
          <p:cNvGrpSpPr/>
          <p:nvPr/>
        </p:nvGrpSpPr>
        <p:grpSpPr>
          <a:xfrm>
            <a:off x="3276720" y="4300560"/>
            <a:ext cx="3047760" cy="747720"/>
            <a:chOff x="3276720" y="4300560"/>
            <a:chExt cx="3047760" cy="747720"/>
          </a:xfrm>
        </p:grpSpPr>
        <p:grpSp>
          <p:nvGrpSpPr>
            <p:cNvPr id="512" name="Rectangle 24"/>
            <p:cNvGrpSpPr/>
            <p:nvPr/>
          </p:nvGrpSpPr>
          <p:grpSpPr>
            <a:xfrm>
              <a:off x="3276720" y="4300560"/>
              <a:ext cx="2883240" cy="747720"/>
              <a:chOff x="3276720" y="4300560"/>
              <a:chExt cx="2883240" cy="747720"/>
            </a:xfrm>
          </p:grpSpPr>
          <p:pic>
            <p:nvPicPr>
              <p:cNvPr id="513" name="Rectangle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76720" y="4300560"/>
                <a:ext cx="2883240" cy="74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3314880" y="4333680"/>
                <a:ext cx="2763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Straight Connector 25"/>
            <p:cNvSpPr/>
            <p:nvPr/>
          </p:nvSpPr>
          <p:spPr>
            <a:xfrm>
              <a:off x="3526560" y="4525920"/>
              <a:ext cx="68796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55"/>
            <p:cNvSpPr/>
            <p:nvPr/>
          </p:nvSpPr>
          <p:spPr>
            <a:xfrm>
              <a:off x="4231440" y="43930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pas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Straight Connector 27"/>
            <p:cNvSpPr/>
            <p:nvPr/>
          </p:nvSpPr>
          <p:spPr>
            <a:xfrm>
              <a:off x="3526560" y="4775040"/>
              <a:ext cx="687960" cy="10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57"/>
            <p:cNvSpPr/>
            <p:nvPr/>
          </p:nvSpPr>
          <p:spPr>
            <a:xfrm>
              <a:off x="4231440" y="4630680"/>
              <a:ext cx="209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"/>
                </a:rPr>
                <a:t>Depth test fai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lly Deferred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duction in Rend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ontent Placeholder 2"/>
          <p:cNvSpPr/>
          <p:nvPr/>
        </p:nvSpPr>
        <p:spPr>
          <a:xfrm>
            <a:off x="4849920" y="1998720"/>
            <a:ext cx="3754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quires mor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nder Nor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Isosceles Triangle 8"/>
          <p:cNvSpPr/>
          <p:nvPr/>
        </p:nvSpPr>
        <p:spPr>
          <a:xfrm rot="20605800">
            <a:off x="2571840" y="3340080"/>
            <a:ext cx="43488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Isosceles Triangle 11"/>
          <p:cNvSpPr/>
          <p:nvPr/>
        </p:nvSpPr>
        <p:spPr>
          <a:xfrm rot="1231800">
            <a:off x="233208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be 5"/>
          <p:cNvSpPr/>
          <p:nvPr/>
        </p:nvSpPr>
        <p:spPr>
          <a:xfrm>
            <a:off x="234000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7"/>
          <p:cNvSpPr/>
          <p:nvPr/>
        </p:nvSpPr>
        <p:spPr>
          <a:xfrm>
            <a:off x="3419640" y="3710160"/>
            <a:ext cx="720720" cy="288720"/>
          </a:xfrm>
          <a:prstGeom prst="rightArrow">
            <a:avLst>
              <a:gd name="adj1" fmla="val 50000"/>
              <a:gd name="adj2" fmla="val 4992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9"/>
          <p:cNvSpPr/>
          <p:nvPr/>
        </p:nvSpPr>
        <p:spPr>
          <a:xfrm>
            <a:off x="3419640" y="4573440"/>
            <a:ext cx="720720" cy="289080"/>
          </a:xfrm>
          <a:prstGeom prst="rightArrow">
            <a:avLst>
              <a:gd name="adj1" fmla="val 50000"/>
              <a:gd name="adj2" fmla="val 4986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643280" y="3565440"/>
            <a:ext cx="223236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Isosceles Triangle 15"/>
          <p:cNvGrpSpPr/>
          <p:nvPr/>
        </p:nvGrpSpPr>
        <p:grpSpPr>
          <a:xfrm>
            <a:off x="5205240" y="4133880"/>
            <a:ext cx="463680" cy="749160"/>
            <a:chOff x="5205240" y="4133880"/>
            <a:chExt cx="463680" cy="749160"/>
          </a:xfrm>
        </p:grpSpPr>
        <p:pic>
          <p:nvPicPr>
            <p:cNvPr id="164" name="Isosceles Triangle 15" descr=""/>
            <p:cNvPicPr/>
            <p:nvPr/>
          </p:nvPicPr>
          <p:blipFill>
            <a:blip r:embed="rId1"/>
            <a:stretch/>
          </p:blipFill>
          <p:spPr>
            <a:xfrm>
              <a:off x="5205240" y="4133880"/>
              <a:ext cx="463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605800">
              <a:off x="5275080" y="4468680"/>
              <a:ext cx="2174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Isosceles Triangle 16"/>
          <p:cNvGrpSpPr/>
          <p:nvPr/>
        </p:nvGrpSpPr>
        <p:grpSpPr>
          <a:xfrm>
            <a:off x="4767120" y="4127400"/>
            <a:ext cx="493920" cy="755640"/>
            <a:chOff x="4767120" y="4127400"/>
            <a:chExt cx="493920" cy="755640"/>
          </a:xfrm>
        </p:grpSpPr>
        <p:pic>
          <p:nvPicPr>
            <p:cNvPr id="167" name="Isosceles Triangle 16" descr=""/>
            <p:cNvPicPr/>
            <p:nvPr/>
          </p:nvPicPr>
          <p:blipFill>
            <a:blip r:embed="rId2"/>
            <a:stretch/>
          </p:blipFill>
          <p:spPr>
            <a:xfrm>
              <a:off x="4767120" y="4127400"/>
              <a:ext cx="493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231800">
              <a:off x="4939920" y="4451040"/>
              <a:ext cx="239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Cube 17"/>
          <p:cNvSpPr/>
          <p:nvPr/>
        </p:nvSpPr>
        <p:spPr>
          <a:xfrm>
            <a:off x="5940360" y="3710160"/>
            <a:ext cx="647640" cy="64764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606920" y="357192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5"/>
          <p:cNvGrpSpPr/>
          <p:nvPr/>
        </p:nvGrpSpPr>
        <p:grpSpPr>
          <a:xfrm>
            <a:off x="4535640" y="1492200"/>
            <a:ext cx="2303280" cy="1366920"/>
            <a:chOff x="4535640" y="1492200"/>
            <a:chExt cx="2303280" cy="1366920"/>
          </a:xfrm>
        </p:grpSpPr>
        <p:sp>
          <p:nvSpPr>
            <p:cNvPr id="172" name="Rectangle 26"/>
            <p:cNvSpPr/>
            <p:nvPr/>
          </p:nvSpPr>
          <p:spPr>
            <a:xfrm>
              <a:off x="4607280" y="1492200"/>
              <a:ext cx="223164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Isosceles Triangle 27"/>
            <p:cNvGrpSpPr/>
            <p:nvPr/>
          </p:nvGrpSpPr>
          <p:grpSpPr>
            <a:xfrm>
              <a:off x="5169960" y="2060640"/>
              <a:ext cx="462960" cy="743040"/>
              <a:chOff x="5169960" y="2060640"/>
              <a:chExt cx="462960" cy="743040"/>
            </a:xfrm>
          </p:grpSpPr>
          <p:pic>
            <p:nvPicPr>
              <p:cNvPr id="174" name="Isosceles Triangle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5169960" y="2060640"/>
                <a:ext cx="46296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 rot="20605800">
                <a:off x="5238720" y="239472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Isosceles Triangle 28"/>
            <p:cNvGrpSpPr/>
            <p:nvPr/>
          </p:nvGrpSpPr>
          <p:grpSpPr>
            <a:xfrm>
              <a:off x="4731120" y="2054520"/>
              <a:ext cx="487440" cy="749160"/>
              <a:chOff x="4731120" y="2054520"/>
              <a:chExt cx="487440" cy="749160"/>
            </a:xfrm>
          </p:grpSpPr>
          <p:pic>
            <p:nvPicPr>
              <p:cNvPr id="177" name="Isosceles Tri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1120" y="2054520"/>
                <a:ext cx="48744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1231800">
                <a:off x="4902480" y="2376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Cube 29"/>
            <p:cNvGrpSpPr/>
            <p:nvPr/>
          </p:nvGrpSpPr>
          <p:grpSpPr>
            <a:xfrm>
              <a:off x="5882760" y="1615680"/>
              <a:ext cx="688320" cy="688320"/>
              <a:chOff x="5882760" y="1615680"/>
              <a:chExt cx="688320" cy="688320"/>
            </a:xfrm>
          </p:grpSpPr>
          <p:pic>
            <p:nvPicPr>
              <p:cNvPr id="180" name="Cub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2760" y="1615680"/>
                <a:ext cx="6883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5902920" y="1797840"/>
                <a:ext cx="485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Box 32"/>
            <p:cNvSpPr/>
            <p:nvPr/>
          </p:nvSpPr>
          <p:spPr>
            <a:xfrm>
              <a:off x="4535640" y="1492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Up-Down Arrow 34"/>
          <p:cNvSpPr/>
          <p:nvPr/>
        </p:nvSpPr>
        <p:spPr>
          <a:xfrm>
            <a:off x="5614920" y="3003480"/>
            <a:ext cx="216000" cy="360360"/>
          </a:xfrm>
          <a:prstGeom prst="upDown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5"/>
          <p:cNvSpPr/>
          <p:nvPr/>
        </p:nvSpPr>
        <p:spPr>
          <a:xfrm>
            <a:off x="5937120" y="3886200"/>
            <a:ext cx="486000" cy="485640"/>
          </a:xfrm>
          <a:prstGeom prst="rect">
            <a:avLst/>
          </a:prstGeom>
          <a:gradFill rotWithShape="0">
            <a:gsLst>
              <a:gs pos="0">
                <a:srgbClr val="675b75"/>
              </a:gs>
              <a:gs pos="100000">
                <a:srgbClr val="b39fca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Parallelogram 42"/>
          <p:cNvGrpSpPr/>
          <p:nvPr/>
        </p:nvGrpSpPr>
        <p:grpSpPr>
          <a:xfrm>
            <a:off x="5919840" y="3687840"/>
            <a:ext cx="718920" cy="214200"/>
            <a:chOff x="5919840" y="3687840"/>
            <a:chExt cx="718920" cy="214200"/>
          </a:xfrm>
        </p:grpSpPr>
        <p:pic>
          <p:nvPicPr>
            <p:cNvPr id="186" name="Parallelogram 42" descr=""/>
            <p:cNvPicPr/>
            <p:nvPr/>
          </p:nvPicPr>
          <p:blipFill>
            <a:blip r:embed="rId6"/>
            <a:stretch/>
          </p:blipFill>
          <p:spPr>
            <a:xfrm>
              <a:off x="5919840" y="3687840"/>
              <a:ext cx="71892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6058080" y="3740040"/>
              <a:ext cx="4410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arallelogram 43"/>
          <p:cNvSpPr/>
          <p:nvPr/>
        </p:nvSpPr>
        <p:spPr>
          <a:xfrm flipH="1" rot="16200000">
            <a:off x="6197400" y="3941640"/>
            <a:ext cx="654120" cy="200160"/>
          </a:xfrm>
          <a:prstGeom prst="parallelogram">
            <a:avLst>
              <a:gd name="adj" fmla="val 94454"/>
            </a:avLst>
          </a:prstGeom>
          <a:gradFill rotWithShape="0">
            <a:gsLst>
              <a:gs pos="0">
                <a:srgbClr val="717f56"/>
              </a:gs>
              <a:gs pos="100000">
                <a:srgbClr val="c5db97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428480"/>
            <a:ext cx="397044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 in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rmal (and depth)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s a single color 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 Multiple Render Targets requ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ghting Accu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708360" y="4371840"/>
            <a:ext cx="576360" cy="576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1"/>
          <p:cNvSpPr/>
          <p:nvPr/>
        </p:nvSpPr>
        <p:spPr>
          <a:xfrm>
            <a:off x="3564000" y="3363840"/>
            <a:ext cx="863640" cy="863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42"/>
          <p:cNvSpPr/>
          <p:nvPr/>
        </p:nvSpPr>
        <p:spPr>
          <a:xfrm>
            <a:off x="4535640" y="3651120"/>
            <a:ext cx="396720" cy="289080"/>
          </a:xfrm>
          <a:prstGeom prst="rightArrow">
            <a:avLst>
              <a:gd name="adj1" fmla="val 50000"/>
              <a:gd name="adj2" fmla="val 497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43"/>
          <p:cNvSpPr/>
          <p:nvPr/>
        </p:nvSpPr>
        <p:spPr>
          <a:xfrm>
            <a:off x="4535640" y="4516560"/>
            <a:ext cx="396720" cy="287280"/>
          </a:xfrm>
          <a:prstGeom prst="rightArrow">
            <a:avLst>
              <a:gd name="adj1" fmla="val 50000"/>
              <a:gd name="adj2" fmla="val 50066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Up Arrow 44"/>
          <p:cNvSpPr/>
          <p:nvPr/>
        </p:nvSpPr>
        <p:spPr>
          <a:xfrm>
            <a:off x="5364000" y="2787480"/>
            <a:ext cx="216000" cy="576360"/>
          </a:xfrm>
          <a:prstGeom prst="up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Up Arrow 45"/>
          <p:cNvSpPr/>
          <p:nvPr/>
        </p:nvSpPr>
        <p:spPr>
          <a:xfrm>
            <a:off x="6875640" y="2787480"/>
            <a:ext cx="217440" cy="576360"/>
          </a:xfrm>
          <a:prstGeom prst="upArrow">
            <a:avLst>
              <a:gd name="adj1" fmla="val 50000"/>
              <a:gd name="adj2" fmla="val 497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7"/>
          <p:cNvSpPr/>
          <p:nvPr/>
        </p:nvSpPr>
        <p:spPr>
          <a:xfrm>
            <a:off x="6659640" y="1276200"/>
            <a:ext cx="2233440" cy="136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Isosceles Triangle 58"/>
          <p:cNvGrpSpPr/>
          <p:nvPr/>
        </p:nvGrpSpPr>
        <p:grpSpPr>
          <a:xfrm>
            <a:off x="7223040" y="1841400"/>
            <a:ext cx="463680" cy="749520"/>
            <a:chOff x="7223040" y="1841400"/>
            <a:chExt cx="463680" cy="749520"/>
          </a:xfrm>
        </p:grpSpPr>
        <p:pic>
          <p:nvPicPr>
            <p:cNvPr id="199" name="Isosceles Triangle 58" descr=""/>
            <p:cNvPicPr/>
            <p:nvPr/>
          </p:nvPicPr>
          <p:blipFill>
            <a:blip r:embed="rId1"/>
            <a:stretch/>
          </p:blipFill>
          <p:spPr>
            <a:xfrm>
              <a:off x="7223040" y="1841400"/>
              <a:ext cx="46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20605800">
              <a:off x="7292880" y="2177640"/>
              <a:ext cx="216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Isosceles Triangle 59"/>
          <p:cNvGrpSpPr/>
          <p:nvPr/>
        </p:nvGrpSpPr>
        <p:grpSpPr>
          <a:xfrm>
            <a:off x="6784920" y="1835280"/>
            <a:ext cx="487440" cy="755640"/>
            <a:chOff x="6784920" y="1835280"/>
            <a:chExt cx="487440" cy="755640"/>
          </a:xfrm>
        </p:grpSpPr>
        <p:pic>
          <p:nvPicPr>
            <p:cNvPr id="202" name="Isosceles Triangle 59" descr=""/>
            <p:cNvPicPr/>
            <p:nvPr/>
          </p:nvPicPr>
          <p:blipFill>
            <a:blip r:embed="rId2"/>
            <a:stretch/>
          </p:blipFill>
          <p:spPr>
            <a:xfrm>
              <a:off x="6784920" y="1835280"/>
              <a:ext cx="4874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 rot="1231800">
              <a:off x="6956280" y="2160720"/>
              <a:ext cx="24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Cube 60"/>
          <p:cNvGrpSpPr/>
          <p:nvPr/>
        </p:nvGrpSpPr>
        <p:grpSpPr>
          <a:xfrm>
            <a:off x="7937640" y="1401840"/>
            <a:ext cx="682560" cy="682560"/>
            <a:chOff x="7937640" y="1401840"/>
            <a:chExt cx="682560" cy="682560"/>
          </a:xfrm>
        </p:grpSpPr>
        <p:pic>
          <p:nvPicPr>
            <p:cNvPr id="205" name="Cube 60" descr=""/>
            <p:cNvPicPr/>
            <p:nvPr/>
          </p:nvPicPr>
          <p:blipFill>
            <a:blip r:embed="rId3"/>
            <a:stretch/>
          </p:blipFill>
          <p:spPr>
            <a:xfrm>
              <a:off x="7937640" y="1401840"/>
              <a:ext cx="6825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7956720" y="1581120"/>
              <a:ext cx="485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61"/>
          <p:cNvSpPr/>
          <p:nvPr/>
        </p:nvSpPr>
        <p:spPr>
          <a:xfrm>
            <a:off x="6588000" y="127620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Depth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2"/>
          <p:cNvGrpSpPr/>
          <p:nvPr/>
        </p:nvGrpSpPr>
        <p:grpSpPr>
          <a:xfrm>
            <a:off x="5076720" y="3508200"/>
            <a:ext cx="2303280" cy="1644480"/>
            <a:chOff x="5076720" y="3508200"/>
            <a:chExt cx="2303280" cy="1644480"/>
          </a:xfrm>
        </p:grpSpPr>
        <p:grpSp>
          <p:nvGrpSpPr>
            <p:cNvPr id="209" name="Oval 54"/>
            <p:cNvGrpSpPr/>
            <p:nvPr/>
          </p:nvGrpSpPr>
          <p:grpSpPr>
            <a:xfrm>
              <a:off x="5980680" y="3931920"/>
              <a:ext cx="871560" cy="877680"/>
              <a:chOff x="5980680" y="3931920"/>
              <a:chExt cx="871560" cy="877680"/>
            </a:xfrm>
          </p:grpSpPr>
          <p:pic>
            <p:nvPicPr>
              <p:cNvPr id="210" name="Oval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5980680" y="3931920"/>
                <a:ext cx="871560" cy="87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10640" y="4066200"/>
                <a:ext cx="61092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L-Shape 55"/>
            <p:cNvSpPr/>
            <p:nvPr/>
          </p:nvSpPr>
          <p:spPr>
            <a:xfrm>
              <a:off x="5921640" y="3839400"/>
              <a:ext cx="1007640" cy="95508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48"/>
            <p:cNvGrpSpPr/>
            <p:nvPr/>
          </p:nvGrpSpPr>
          <p:grpSpPr>
            <a:xfrm>
              <a:off x="5754960" y="4328280"/>
              <a:ext cx="585000" cy="591120"/>
              <a:chOff x="5754960" y="4328280"/>
              <a:chExt cx="585000" cy="591120"/>
            </a:xfrm>
          </p:grpSpPr>
          <p:pic>
            <p:nvPicPr>
              <p:cNvPr id="214" name="Oval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5754960" y="4328280"/>
                <a:ext cx="58500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5844960" y="4418640"/>
                <a:ext cx="40716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Isosceles Triangle 49"/>
            <p:cNvSpPr/>
            <p:nvPr/>
          </p:nvSpPr>
          <p:spPr>
            <a:xfrm rot="18255600">
              <a:off x="5856840" y="4030200"/>
              <a:ext cx="63504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Isosceles Triangle 50"/>
            <p:cNvSpPr/>
            <p:nvPr/>
          </p:nvSpPr>
          <p:spPr>
            <a:xfrm rot="16200000">
              <a:off x="5607360" y="4461120"/>
              <a:ext cx="542520" cy="840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6"/>
            <p:cNvSpPr/>
            <p:nvPr/>
          </p:nvSpPr>
          <p:spPr>
            <a:xfrm>
              <a:off x="5148360" y="3508200"/>
              <a:ext cx="223164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62"/>
            <p:cNvSpPr/>
            <p:nvPr/>
          </p:nvSpPr>
          <p:spPr>
            <a:xfrm>
              <a:off x="5076720" y="3508200"/>
              <a:ext cx="100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69"/>
          <p:cNvGrpSpPr/>
          <p:nvPr/>
        </p:nvGrpSpPr>
        <p:grpSpPr>
          <a:xfrm>
            <a:off x="3492360" y="1276200"/>
            <a:ext cx="2232000" cy="1366920"/>
            <a:chOff x="3492360" y="1276200"/>
            <a:chExt cx="2232000" cy="1366920"/>
          </a:xfrm>
        </p:grpSpPr>
        <p:sp>
          <p:nvSpPr>
            <p:cNvPr id="221" name="Rectangle 70"/>
            <p:cNvSpPr/>
            <p:nvPr/>
          </p:nvSpPr>
          <p:spPr>
            <a:xfrm>
              <a:off x="3492360" y="1276200"/>
              <a:ext cx="223200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Isosceles Triangle 71"/>
            <p:cNvGrpSpPr/>
            <p:nvPr/>
          </p:nvGrpSpPr>
          <p:grpSpPr>
            <a:xfrm>
              <a:off x="4054320" y="1841040"/>
              <a:ext cx="462960" cy="749160"/>
              <a:chOff x="4054320" y="1841040"/>
              <a:chExt cx="462960" cy="749160"/>
            </a:xfrm>
          </p:grpSpPr>
          <p:pic>
            <p:nvPicPr>
              <p:cNvPr id="223" name="Isosceles Triangle 71" descr=""/>
              <p:cNvPicPr/>
              <p:nvPr/>
            </p:nvPicPr>
            <p:blipFill>
              <a:blip r:embed="rId6"/>
              <a:stretch/>
            </p:blipFill>
            <p:spPr>
              <a:xfrm>
                <a:off x="4054320" y="1841040"/>
                <a:ext cx="46296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 rot="20605800">
                <a:off x="4123800" y="2178360"/>
                <a:ext cx="21708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Isosceles Triangle 72"/>
            <p:cNvGrpSpPr/>
            <p:nvPr/>
          </p:nvGrpSpPr>
          <p:grpSpPr>
            <a:xfrm>
              <a:off x="3615120" y="1834920"/>
              <a:ext cx="493560" cy="755280"/>
              <a:chOff x="3615120" y="1834920"/>
              <a:chExt cx="493560" cy="755280"/>
            </a:xfrm>
          </p:grpSpPr>
          <p:pic>
            <p:nvPicPr>
              <p:cNvPr id="226" name="Isosceles Triangle 72" descr=""/>
              <p:cNvPicPr/>
              <p:nvPr/>
            </p:nvPicPr>
            <p:blipFill>
              <a:blip r:embed="rId7"/>
              <a:stretch/>
            </p:blipFill>
            <p:spPr>
              <a:xfrm>
                <a:off x="3615120" y="1834920"/>
                <a:ext cx="493560" cy="75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 rot="1231800">
                <a:off x="3787200" y="2160000"/>
                <a:ext cx="2408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Cube 73"/>
            <p:cNvSpPr/>
            <p:nvPr/>
          </p:nvSpPr>
          <p:spPr>
            <a:xfrm>
              <a:off x="4788360" y="1419840"/>
              <a:ext cx="648000" cy="64764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4785840" y="1596600"/>
              <a:ext cx="484920" cy="484560"/>
            </a:xfrm>
            <a:prstGeom prst="rect">
              <a:avLst/>
            </a:prstGeom>
            <a:gradFill rotWithShape="0">
              <a:gsLst>
                <a:gs pos="0">
                  <a:srgbClr val="675b75"/>
                </a:gs>
                <a:gs pos="100000">
                  <a:srgbClr val="b39fca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Parallelogram 75"/>
            <p:cNvGrpSpPr/>
            <p:nvPr/>
          </p:nvGrpSpPr>
          <p:grpSpPr>
            <a:xfrm>
              <a:off x="4767480" y="1402560"/>
              <a:ext cx="719280" cy="207000"/>
              <a:chOff x="4767480" y="1402560"/>
              <a:chExt cx="719280" cy="207000"/>
            </a:xfrm>
          </p:grpSpPr>
          <p:pic>
            <p:nvPicPr>
              <p:cNvPr id="231" name="Parallelogram 75" descr=""/>
              <p:cNvPicPr/>
              <p:nvPr/>
            </p:nvPicPr>
            <p:blipFill>
              <a:blip r:embed="rId8"/>
              <a:stretch/>
            </p:blipFill>
            <p:spPr>
              <a:xfrm>
                <a:off x="4767480" y="1402560"/>
                <a:ext cx="71928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4906080" y="1449360"/>
                <a:ext cx="44064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Parallelogram 76"/>
            <p:cNvSpPr/>
            <p:nvPr/>
          </p:nvSpPr>
          <p:spPr>
            <a:xfrm flipH="1" rot="16200000">
              <a:off x="5045400" y="1651680"/>
              <a:ext cx="653400" cy="199800"/>
            </a:xfrm>
            <a:prstGeom prst="parallelogram">
              <a:avLst>
                <a:gd name="adj" fmla="val 94520"/>
              </a:avLst>
            </a:prstGeom>
            <a:gradFill rotWithShape="0">
              <a:gsLst>
                <a:gs pos="0">
                  <a:srgbClr val="717f56"/>
                </a:gs>
                <a:gs pos="100000">
                  <a:srgbClr val="c5db97"/>
                </a:gs>
              </a:gsLst>
              <a:lin ang="162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51"/>
          <p:cNvSpPr/>
          <p:nvPr/>
        </p:nvSpPr>
        <p:spPr>
          <a:xfrm>
            <a:off x="3419640" y="127620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Normal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9840"/>
            <a:ext cx="317808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rform all ligh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lculation into light buff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se normal and depth buffer as input 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nder geometries enclosing light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rite LightColor * N.L * Attenuation in RGB, specular in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ight Pre-pas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mbine lighting with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Isosceles Triangle 8"/>
          <p:cNvSpPr/>
          <p:nvPr/>
        </p:nvSpPr>
        <p:spPr>
          <a:xfrm rot="20605800">
            <a:off x="3402000" y="333972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Isosceles Triangle 11"/>
          <p:cNvSpPr/>
          <p:nvPr/>
        </p:nvSpPr>
        <p:spPr>
          <a:xfrm rot="1231800">
            <a:off x="3160800" y="3341520"/>
            <a:ext cx="482400" cy="6652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ube 5"/>
          <p:cNvSpPr/>
          <p:nvPr/>
        </p:nvSpPr>
        <p:spPr>
          <a:xfrm>
            <a:off x="3168720" y="4371840"/>
            <a:ext cx="647640" cy="64800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Arrow 7"/>
          <p:cNvSpPr/>
          <p:nvPr/>
        </p:nvSpPr>
        <p:spPr>
          <a:xfrm>
            <a:off x="4249800" y="3710160"/>
            <a:ext cx="718920" cy="28872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9"/>
          <p:cNvSpPr/>
          <p:nvPr/>
        </p:nvSpPr>
        <p:spPr>
          <a:xfrm>
            <a:off x="4249800" y="4573440"/>
            <a:ext cx="718920" cy="289080"/>
          </a:xfrm>
          <a:prstGeom prst="rightArrow">
            <a:avLst>
              <a:gd name="adj1" fmla="val 50000"/>
              <a:gd name="adj2" fmla="val 497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35"/>
          <p:cNvGrpSpPr/>
          <p:nvPr/>
        </p:nvGrpSpPr>
        <p:grpSpPr>
          <a:xfrm>
            <a:off x="6443640" y="1492200"/>
            <a:ext cx="2305080" cy="1366920"/>
            <a:chOff x="6443640" y="1492200"/>
            <a:chExt cx="2305080" cy="1366920"/>
          </a:xfrm>
        </p:grpSpPr>
        <p:sp>
          <p:nvSpPr>
            <p:cNvPr id="243" name="Rectangle 26"/>
            <p:cNvSpPr/>
            <p:nvPr/>
          </p:nvSpPr>
          <p:spPr>
            <a:xfrm>
              <a:off x="6515640" y="1492200"/>
              <a:ext cx="2233080" cy="1366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Isosceles Triangle 27"/>
            <p:cNvGrpSpPr/>
            <p:nvPr/>
          </p:nvGrpSpPr>
          <p:grpSpPr>
            <a:xfrm>
              <a:off x="7083000" y="2060640"/>
              <a:ext cx="457200" cy="743040"/>
              <a:chOff x="7083000" y="2060640"/>
              <a:chExt cx="457200" cy="743040"/>
            </a:xfrm>
          </p:grpSpPr>
          <p:pic>
            <p:nvPicPr>
              <p:cNvPr id="245" name="Isosceles Triangle 27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3000" y="2060640"/>
                <a:ext cx="45720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0605800">
                <a:off x="7147080" y="2394720"/>
                <a:ext cx="21744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Isosceles Triangle 28"/>
            <p:cNvGrpSpPr/>
            <p:nvPr/>
          </p:nvGrpSpPr>
          <p:grpSpPr>
            <a:xfrm>
              <a:off x="6638040" y="2054520"/>
              <a:ext cx="493920" cy="749160"/>
              <a:chOff x="6638040" y="2054520"/>
              <a:chExt cx="493920" cy="749160"/>
            </a:xfrm>
          </p:grpSpPr>
          <p:pic>
            <p:nvPicPr>
              <p:cNvPr id="248" name="Isosceles Triangle 28" descr=""/>
              <p:cNvPicPr/>
              <p:nvPr/>
            </p:nvPicPr>
            <p:blipFill>
              <a:blip r:embed="rId2"/>
              <a:stretch/>
            </p:blipFill>
            <p:spPr>
              <a:xfrm>
                <a:off x="6638040" y="2054520"/>
                <a:ext cx="49392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1231800">
                <a:off x="6811200" y="2376360"/>
                <a:ext cx="241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Cube 29"/>
            <p:cNvGrpSpPr/>
            <p:nvPr/>
          </p:nvGrpSpPr>
          <p:grpSpPr>
            <a:xfrm>
              <a:off x="7796880" y="1615680"/>
              <a:ext cx="682920" cy="688320"/>
              <a:chOff x="7796880" y="1615680"/>
              <a:chExt cx="682920" cy="688320"/>
            </a:xfrm>
          </p:grpSpPr>
          <p:pic>
            <p:nvPicPr>
              <p:cNvPr id="251" name="Cub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6880" y="1615680"/>
                <a:ext cx="682920" cy="68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7812360" y="1797840"/>
                <a:ext cx="48636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TextBox 32"/>
            <p:cNvSpPr/>
            <p:nvPr/>
          </p:nvSpPr>
          <p:spPr>
            <a:xfrm>
              <a:off x="644364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Depth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Up Arrow 23"/>
          <p:cNvSpPr/>
          <p:nvPr/>
        </p:nvSpPr>
        <p:spPr>
          <a:xfrm>
            <a:off x="6875640" y="3003480"/>
            <a:ext cx="217440" cy="360360"/>
          </a:xfrm>
          <a:prstGeom prst="upArrow">
            <a:avLst>
              <a:gd name="adj1" fmla="val 50000"/>
              <a:gd name="adj2" fmla="val 4971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4"/>
          <p:cNvGrpSpPr/>
          <p:nvPr/>
        </p:nvGrpSpPr>
        <p:grpSpPr>
          <a:xfrm>
            <a:off x="3851280" y="1492200"/>
            <a:ext cx="2305080" cy="1644480"/>
            <a:chOff x="3851280" y="1492200"/>
            <a:chExt cx="2305080" cy="1644480"/>
          </a:xfrm>
        </p:grpSpPr>
        <p:grpSp>
          <p:nvGrpSpPr>
            <p:cNvPr id="256" name="Oval 25"/>
            <p:cNvGrpSpPr/>
            <p:nvPr/>
          </p:nvGrpSpPr>
          <p:grpSpPr>
            <a:xfrm>
              <a:off x="4754520" y="1920600"/>
              <a:ext cx="871920" cy="871560"/>
              <a:chOff x="4754520" y="1920600"/>
              <a:chExt cx="871920" cy="871560"/>
            </a:xfrm>
          </p:grpSpPr>
          <p:pic>
            <p:nvPicPr>
              <p:cNvPr id="257" name="Oval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4754520" y="1920600"/>
                <a:ext cx="871920" cy="8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4885560" y="2050560"/>
                <a:ext cx="611280" cy="61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L-Shape 30"/>
            <p:cNvSpPr/>
            <p:nvPr/>
          </p:nvSpPr>
          <p:spPr>
            <a:xfrm>
              <a:off x="4696560" y="1823400"/>
              <a:ext cx="1008360" cy="955080"/>
            </a:xfrm>
            <a:custGeom>
              <a:avLst/>
              <a:gdLst>
                <a:gd name="textAreaLeft" fmla="*/ 0 w 1008360"/>
                <a:gd name="textAreaRight" fmla="*/ 1008720 w 1008360"/>
                <a:gd name="textAreaTop" fmla="*/ 47772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1008112" h="955154">
                  <a:moveTo>
                    <a:pt x="0" y="0"/>
                  </a:moveTo>
                  <a:lnTo>
                    <a:pt x="477577" y="0"/>
                  </a:lnTo>
                  <a:lnTo>
                    <a:pt x="477577" y="477577"/>
                  </a:lnTo>
                  <a:lnTo>
                    <a:pt x="1008112" y="477577"/>
                  </a:lnTo>
                  <a:lnTo>
                    <a:pt x="1008112" y="955154"/>
                  </a:lnTo>
                  <a:lnTo>
                    <a:pt x="0" y="955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Oval 36"/>
            <p:cNvGrpSpPr/>
            <p:nvPr/>
          </p:nvGrpSpPr>
          <p:grpSpPr>
            <a:xfrm>
              <a:off x="4528800" y="2310840"/>
              <a:ext cx="591480" cy="591120"/>
              <a:chOff x="4528800" y="2310840"/>
              <a:chExt cx="591480" cy="591120"/>
            </a:xfrm>
          </p:grpSpPr>
          <p:pic>
            <p:nvPicPr>
              <p:cNvPr id="261" name="Oval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28800" y="2310840"/>
                <a:ext cx="591480" cy="5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4620240" y="2403000"/>
                <a:ext cx="407520" cy="40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Isosceles Triangle 37"/>
            <p:cNvSpPr/>
            <p:nvPr/>
          </p:nvSpPr>
          <p:spPr>
            <a:xfrm rot="18255600">
              <a:off x="4631760" y="2013840"/>
              <a:ext cx="63504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Isosceles Triangle 38"/>
            <p:cNvSpPr/>
            <p:nvPr/>
          </p:nvSpPr>
          <p:spPr>
            <a:xfrm rot="16200000">
              <a:off x="4382280" y="2444760"/>
              <a:ext cx="542520" cy="840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39"/>
            <p:cNvSpPr/>
            <p:nvPr/>
          </p:nvSpPr>
          <p:spPr>
            <a:xfrm>
              <a:off x="3923280" y="1492200"/>
              <a:ext cx="2233080" cy="136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40"/>
            <p:cNvSpPr/>
            <p:nvPr/>
          </p:nvSpPr>
          <p:spPr>
            <a:xfrm>
              <a:off x="3851280" y="1492200"/>
              <a:ext cx="1008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Light 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Cube 44"/>
          <p:cNvSpPr/>
          <p:nvPr/>
        </p:nvSpPr>
        <p:spPr>
          <a:xfrm>
            <a:off x="6488280" y="3735360"/>
            <a:ext cx="647640" cy="64764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5"/>
          <p:cNvSpPr/>
          <p:nvPr/>
        </p:nvSpPr>
        <p:spPr>
          <a:xfrm>
            <a:off x="6056280" y="4022640"/>
            <a:ext cx="863640" cy="86364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-Shape 46"/>
          <p:cNvSpPr/>
          <p:nvPr/>
        </p:nvSpPr>
        <p:spPr>
          <a:xfrm>
            <a:off x="5992920" y="3922560"/>
            <a:ext cx="1008000" cy="954360"/>
          </a:xfrm>
          <a:custGeom>
            <a:avLst/>
            <a:gdLst>
              <a:gd name="textAreaLeft" fmla="*/ 0 w 1008000"/>
              <a:gd name="textAreaRight" fmla="*/ 1008360 w 1008000"/>
              <a:gd name="textAreaTop" fmla="*/ 477360 h 954360"/>
              <a:gd name="textAreaBottom" fmla="*/ 954720 h 954360"/>
            </a:gdLst>
            <a:ahLst/>
            <a:rect l="textAreaLeft" t="textAreaTop" r="textAreaRight" b="textAreaBottom"/>
            <a:pathLst>
              <a:path w="1008112" h="955154">
                <a:moveTo>
                  <a:pt x="0" y="0"/>
                </a:moveTo>
                <a:lnTo>
                  <a:pt x="477577" y="0"/>
                </a:lnTo>
                <a:lnTo>
                  <a:pt x="477577" y="477577"/>
                </a:lnTo>
                <a:lnTo>
                  <a:pt x="1008112" y="477577"/>
                </a:lnTo>
                <a:lnTo>
                  <a:pt x="1008112" y="955154"/>
                </a:lnTo>
                <a:lnTo>
                  <a:pt x="0" y="9551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sosceles Triangle 47"/>
          <p:cNvSpPr/>
          <p:nvPr/>
        </p:nvSpPr>
        <p:spPr>
          <a:xfrm rot="20605800">
            <a:off x="5676840" y="4138200"/>
            <a:ext cx="433440" cy="68256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sosceles Triangle 48"/>
          <p:cNvSpPr/>
          <p:nvPr/>
        </p:nvSpPr>
        <p:spPr>
          <a:xfrm rot="1231800">
            <a:off x="5435640" y="4141800"/>
            <a:ext cx="482400" cy="663480"/>
          </a:xfrm>
          <a:prstGeom prst="triangle">
            <a:avLst>
              <a:gd name="adj" fmla="val 447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49"/>
          <p:cNvSpPr/>
          <p:nvPr/>
        </p:nvSpPr>
        <p:spPr>
          <a:xfrm>
            <a:off x="5832360" y="4417920"/>
            <a:ext cx="576360" cy="5763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sosceles Triangle 50"/>
          <p:cNvSpPr/>
          <p:nvPr/>
        </p:nvSpPr>
        <p:spPr>
          <a:xfrm rot="18255600">
            <a:off x="5928480" y="4114080"/>
            <a:ext cx="635040" cy="83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sosceles Triangle 51"/>
          <p:cNvSpPr/>
          <p:nvPr/>
        </p:nvSpPr>
        <p:spPr>
          <a:xfrm rot="16200000">
            <a:off x="5678280" y="4543200"/>
            <a:ext cx="542880" cy="841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2"/>
          <p:cNvSpPr/>
          <p:nvPr/>
        </p:nvSpPr>
        <p:spPr>
          <a:xfrm>
            <a:off x="5148360" y="35910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3"/>
          <p:cNvSpPr/>
          <p:nvPr/>
        </p:nvSpPr>
        <p:spPr>
          <a:xfrm>
            <a:off x="5219640" y="3591000"/>
            <a:ext cx="223200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Up Arrow 54"/>
          <p:cNvSpPr/>
          <p:nvPr/>
        </p:nvSpPr>
        <p:spPr>
          <a:xfrm>
            <a:off x="5580000" y="3003480"/>
            <a:ext cx="216000" cy="360360"/>
          </a:xfrm>
          <a:prstGeom prst="upArrow">
            <a:avLst>
              <a:gd name="adj1" fmla="val 50000"/>
              <a:gd name="adj2" fmla="val 5005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5280" y="1491840"/>
            <a:ext cx="289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nde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geometry p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ing light buffer as in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etch geometry 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bine with light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37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ght Pre-pass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1560" y="1998360"/>
            <a:ext cx="35388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cene geometry decoupled from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ading/lighting only applied to visible frag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-Buffer already produces data required for post-process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One material fetch per pixel regardless of number of ligh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Content Placeholder 2"/>
          <p:cNvSpPr/>
          <p:nvPr/>
        </p:nvSpPr>
        <p:spPr>
          <a:xfrm>
            <a:off x="4849920" y="1998720"/>
            <a:ext cx="42940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gnificant engine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stly and complex MS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ward rendering required for 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wo scene geometry pass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Unique ligh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nthibieroz\AppData\Local\Microsoft\Windows\Temporary Internet Files\Content.IE5\5MHSI853\MC900441322[1].png"/>
          <p:cNvPicPr/>
          <p:nvPr/>
        </p:nvPicPr>
        <p:blipFill>
          <a:blip r:embed="rId1"/>
          <a:stretch/>
        </p:blipFill>
        <p:spPr>
          <a:xfrm>
            <a:off x="1835280" y="1203480"/>
            <a:ext cx="726840" cy="7268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Users\nthibieroz\AppData\Local\Microsoft\Windows\Temporary Internet Files\Content.IE5\5MHSI853\MC900441321[1].png"/>
          <p:cNvPicPr/>
          <p:nvPr/>
        </p:nvPicPr>
        <p:blipFill>
          <a:blip r:embed="rId2"/>
          <a:stretch/>
        </p:blipFill>
        <p:spPr>
          <a:xfrm>
            <a:off x="6300720" y="1203480"/>
            <a:ext cx="727200" cy="72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7:45Z</dcterms:created>
  <dc:creator>Advanced Micro Devices</dc:creator>
  <dc:description/>
  <dc:language>en-US</dc:language>
  <cp:lastModifiedBy>Advanced Micro Devices</cp:lastModifiedBy>
  <dcterms:modified xsi:type="dcterms:W3CDTF">2011-03-08T11:34:04Z</dcterms:modified>
  <cp:revision>436</cp:revision>
  <dc:subject/>
  <dc:title>Slide 1</dc:title>
</cp:coreProperties>
</file>