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47.jpeg" ContentType="image/jpeg"/>
  <Override PartName="/ppt/media/image50.jpeg" ContentType="image/jpe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jpeg" ContentType="image/jpeg"/>
  <Override PartName="/ppt/media/image51.jpeg" ContentType="image/jpeg"/>
  <Override PartName="/ppt/media/image48.jpeg" ContentType="image/jpe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A04-977E-487C-AEC0-FE380847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DR: article in ShaderX7 book. Depth-only pass, plus full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: the depth buffer (rendered as depth-only pass) is used to cull lights as with full deferred sha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C1FE-1B81-4292-A5AA-5DFA6252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9E7-D596-4795-A2AF-C61588B4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ort cost typically increase if blending is enabled but this should not be the case of the G-Buffer “building”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F6EE-2365-45E4-8CA3-985E29EE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nder objects in front-to-back order: sounds obvious but can really make a difference. Sorting front-to-back means less pixels written out to RTs (exported), thus reducing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3871-16FB-4BAA-8235-5B8C37B9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F5D-7F66-435B-A7DC-069E12CD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 packing allow a reducing in the number of R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gressive packing may prevent filtering later on!: can consider filtering-friendly packing. If packing is filtering un-friendly then an additional “unpacking” pass will be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7FF-0657-42A9-9442-4699C463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EB7-F504-4A00-B269-ACD5B739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 processing is relevant for most deferred engines, either fully deferred or semi defer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s should still be culled as much as possible (e.g. Using CPU culling, or occlusion que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light contributions to accumulation buffer (or light buffer if using light pre-pa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F2D-EA5E-4A67-8A3F-93D63252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E206-FC13-41BA-AE6C-7C6AAB80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BC0-C880-4820-9B01-C685326B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 time to go through all optimizations for light rendering – check previous literature on the topic or see backup slides of this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417-0531-4275-940F-71DA5509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230-5EF6-44DA-B899-6BE85356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 as simple as it seems: unless you’re doing it really naively with a bounding box around the sphere! This solution is too conservative as it generates too large an area to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transforming a sphere in view space and adding +/- XY radius to sphere centre before projection is only an approximation. This is because spheres project to ellipse in post-perspective space and thus simple projection will fail at extreme angles and/or when light is close to the cam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9DF-82A0-47A0-BFBA-D4290D46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ple” sphere projection  yields a quad whose centre is always the position of the light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060-9685-446C-90A3-D372DD2D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” projection can have quad not centered around light sou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12D-6388-47A1-A755-A7723EF3A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frontmost Z of light volume: i.e. Point on the volume that is closest to the cam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228-9636-4226-98BE-A082C851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ABF4-4254-43F4-B6EC-3D562F15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-specific ad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generates redundant memory operations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repeated for every 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move work up the pip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AC0C-3FEF-4220-AA7C-E1096C5A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: some GPUs can bilinear-filter DXGI_FORMAT_R16G16B16A16 _FLOAT at full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638F-573A-49B9-94DF-DDD23FE2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ull Deferred en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92E-B38E-4610-85C7-DF66DC4B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Use this regardless of the light processing method used: whether it’s using light volumes or qu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7FC-75B5-4AC8-87A8-8A2FDD69C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ender targets must be multisampled (increase memory cost): you can get away with not using a MSAA accumulation buffer but you may need to convert MSAA depth buffer to non-MSAA depth buffer if you need further render ops requiring depth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244-96ED-427D-BDD2-31EE5BA9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ge detection via centroid is a neat trick: i.e. Declaring SV_POSITION with centroid interpolation mode and checking is interpolated variable ends with 0.5 or not. If not then edge pix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detect edges checking depth and normals discontinuities: quite a few code examples exist that do this. Be careful when using depth from depth buffer: almost every sample will have a unique dep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verall MSAA is still a high cost with Fully-deferred engines; may want to consider alternative FSAA method like MLA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using depth derivatives for edge detection then watch out for the case where depth buffer is used as G-Buffer since depth is unique per-sample due to MSA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3E4-52E8-4398-97FE-93E2754D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773B-FE0F-47AF-80C7-2618BEEC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41A-A692-4523-A3D6-8348A4BD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33D3-7B12-4E0A-BEE5-F8FB90F2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l known method of marking samples inside a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ives perfect 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ACB8-3C4F-473E-A0C3-A2697841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require more memory: especially if MSAA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 rendering required for translucent objects: unless DX11 OIT solution i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CA2-F4C9-485B-98C5-B8D1B0D3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tting more and more popular. Described by Wolfgang Engel in his blog at http://diaryofagraphicsprogrammer.blogspot.com/2008/03/light-pre-pass-render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ly access to geometries’ normal textures required at this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make for a cheaper first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8EA-178B-4D93-BC5F-074B5DE9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ltiple overlapping lights can be combined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he result of light equations into light 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6BDC-95F7-45BF-8DFC-CC0E5B94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E0D-6AEB-46D6-BC13-ECA3CB27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ss memory needed than fully deferred (no MR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ows materials with multiple diffuse or specular texture that may not fix into a traditional G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: limited storage for materials (monochromatic spec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ADD-9F3B-465D-AFB0-7BF9AFB9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BD8-C59B-4B17-976A-6DBE7DA3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057-5B9A-4771-9E25-A521BD7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3D3-664A-4640-A7EF-A83FB3E8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BC1-2054-42FB-B33A-21FBDF3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571-7191-4BBA-B9E0-3CE4216A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727-1F36-4212-9FFE-E8999C4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747-8230-41D0-9660-76D053E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788-3D94-4129-93FB-AA2C1DF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148-2373-4B5F-BA4D-2783562F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A0C-98E9-4253-A0D2-985C7BF0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BF9-E91D-4F80-9B79-7EB830F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43D-2F26-4DB4-8312-1E697D8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71A-3720-4658-8506-01C383D09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mi-Deferred: Oth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428480"/>
            <a:ext cx="84358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-indexed Deferred Re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stencil or blending to mark light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rred Sha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basic form of deferred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shadowing from screen-sized depth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graphic engines now employ deferred sha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y 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5920" y="1428480"/>
            <a:ext cx="4114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PUs can be bottlenecked by “export”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ort cost is the cost of writing PS outputs into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on scenario as PS is typically short for this pa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3"/>
          <p:cNvGrpSpPr/>
          <p:nvPr/>
        </p:nvGrpSpPr>
        <p:grpSpPr>
          <a:xfrm>
            <a:off x="4511520" y="3565440"/>
            <a:ext cx="4613400" cy="1384560"/>
            <a:chOff x="4511520" y="3565440"/>
            <a:chExt cx="4613400" cy="1384560"/>
          </a:xfrm>
        </p:grpSpPr>
        <p:pic>
          <p:nvPicPr>
            <p:cNvPr id="290" name="Rectangle 3" descr=""/>
            <p:cNvPicPr/>
            <p:nvPr/>
          </p:nvPicPr>
          <p:blipFill>
            <a:blip r:embed="rId1"/>
            <a:stretch/>
          </p:blipFill>
          <p:spPr>
            <a:xfrm>
              <a:off x="4511520" y="3565440"/>
              <a:ext cx="46134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572000" y="3605040"/>
              <a:ext cx="45007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4"/>
          <p:cNvGrpSpPr/>
          <p:nvPr/>
        </p:nvGrpSpPr>
        <p:grpSpPr>
          <a:xfrm>
            <a:off x="5992920" y="1474920"/>
            <a:ext cx="1670040" cy="860400"/>
            <a:chOff x="5992920" y="1474920"/>
            <a:chExt cx="1670040" cy="860400"/>
          </a:xfrm>
        </p:grpSpPr>
        <p:pic>
          <p:nvPicPr>
            <p:cNvPr id="293" name="Rectangle 4" descr=""/>
            <p:cNvPicPr/>
            <p:nvPr/>
          </p:nvPicPr>
          <p:blipFill>
            <a:blip r:embed="rId2"/>
            <a:stretch/>
          </p:blipFill>
          <p:spPr>
            <a:xfrm>
              <a:off x="5992920" y="1474920"/>
              <a:ext cx="16700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012000" y="1492200"/>
              <a:ext cx="16365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Pixel Sha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5"/>
          <p:cNvGrpSpPr/>
          <p:nvPr/>
        </p:nvGrpSpPr>
        <p:grpSpPr>
          <a:xfrm>
            <a:off x="4552920" y="3706920"/>
            <a:ext cx="1098720" cy="785880"/>
            <a:chOff x="4552920" y="3706920"/>
            <a:chExt cx="1098720" cy="785880"/>
          </a:xfrm>
        </p:grpSpPr>
        <p:pic>
          <p:nvPicPr>
            <p:cNvPr id="296" name="Rectangle 5" descr=""/>
            <p:cNvPicPr/>
            <p:nvPr/>
          </p:nvPicPr>
          <p:blipFill>
            <a:blip r:embed="rId3"/>
            <a:stretch/>
          </p:blipFill>
          <p:spPr>
            <a:xfrm>
              <a:off x="4552920" y="3706920"/>
              <a:ext cx="109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3280" y="3743280"/>
              <a:ext cx="936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6"/>
          <p:cNvGrpSpPr/>
          <p:nvPr/>
        </p:nvGrpSpPr>
        <p:grpSpPr>
          <a:xfrm>
            <a:off x="5705640" y="3700440"/>
            <a:ext cx="1096920" cy="785880"/>
            <a:chOff x="5705640" y="3700440"/>
            <a:chExt cx="1096920" cy="785880"/>
          </a:xfrm>
        </p:grpSpPr>
        <p:pic>
          <p:nvPicPr>
            <p:cNvPr id="299" name="Rectangle 6" descr=""/>
            <p:cNvPicPr/>
            <p:nvPr/>
          </p:nvPicPr>
          <p:blipFill>
            <a:blip r:embed="rId4"/>
            <a:stretch/>
          </p:blipFill>
          <p:spPr>
            <a:xfrm>
              <a:off x="5705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796000" y="3738600"/>
              <a:ext cx="936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7"/>
          <p:cNvGrpSpPr/>
          <p:nvPr/>
        </p:nvGrpSpPr>
        <p:grpSpPr>
          <a:xfrm>
            <a:off x="6870600" y="3700440"/>
            <a:ext cx="1096920" cy="785880"/>
            <a:chOff x="6870600" y="3700440"/>
            <a:chExt cx="1096920" cy="785880"/>
          </a:xfrm>
        </p:grpSpPr>
        <p:pic>
          <p:nvPicPr>
            <p:cNvPr id="302" name="Rectangle 7" descr=""/>
            <p:cNvPicPr/>
            <p:nvPr/>
          </p:nvPicPr>
          <p:blipFill>
            <a:blip r:embed="rId5"/>
            <a:stretch/>
          </p:blipFill>
          <p:spPr>
            <a:xfrm>
              <a:off x="687060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958080" y="3738600"/>
              <a:ext cx="927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7991640" y="3700440"/>
            <a:ext cx="1096920" cy="785880"/>
            <a:chOff x="7991640" y="3700440"/>
            <a:chExt cx="1096920" cy="785880"/>
          </a:xfrm>
        </p:grpSpPr>
        <p:pic>
          <p:nvPicPr>
            <p:cNvPr id="305" name="Rectangle 8" descr=""/>
            <p:cNvPicPr/>
            <p:nvPr/>
          </p:nvPicPr>
          <p:blipFill>
            <a:blip r:embed="rId6"/>
            <a:stretch/>
          </p:blipFill>
          <p:spPr>
            <a:xfrm>
              <a:off x="7991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093160" y="3738600"/>
              <a:ext cx="9046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0"/>
          <p:cNvSpPr/>
          <p:nvPr/>
        </p:nvSpPr>
        <p:spPr>
          <a:xfrm>
            <a:off x="6026040" y="439740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0"/>
          <p:cNvCxnSpPr>
            <a:stCxn id="293" idx="2"/>
            <a:endCxn id="296" idx="0"/>
          </p:cNvCxnSpPr>
          <p:nvPr/>
        </p:nvCxnSpPr>
        <p:spPr>
          <a:xfrm flipH="1">
            <a:off x="5111280" y="2325600"/>
            <a:ext cx="1720080" cy="1418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11"/>
          <p:cNvCxnSpPr>
            <a:stCxn id="293" idx="2"/>
            <a:endCxn id="305" idx="0"/>
          </p:cNvCxnSpPr>
          <p:nvPr/>
        </p:nvCxnSpPr>
        <p:spPr>
          <a:xfrm>
            <a:off x="6829920" y="2325240"/>
            <a:ext cx="171540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2"/>
          <p:cNvCxnSpPr>
            <a:stCxn id="293" idx="2"/>
            <a:endCxn id="299" idx="0"/>
          </p:cNvCxnSpPr>
          <p:nvPr/>
        </p:nvCxnSpPr>
        <p:spPr>
          <a:xfrm flipH="1">
            <a:off x="6264000" y="2325240"/>
            <a:ext cx="56736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3"/>
          <p:cNvCxnSpPr>
            <a:stCxn id="293" idx="2"/>
            <a:endCxn id="302" idx="0"/>
          </p:cNvCxnSpPr>
          <p:nvPr/>
        </p:nvCxnSpPr>
        <p:spPr>
          <a:xfrm>
            <a:off x="6831000" y="2325240"/>
            <a:ext cx="59112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12" name="Explosion 1 14"/>
          <p:cNvGrpSpPr/>
          <p:nvPr/>
        </p:nvGrpSpPr>
        <p:grpSpPr>
          <a:xfrm>
            <a:off x="5175360" y="2352600"/>
            <a:ext cx="3267000" cy="1116000"/>
            <a:chOff x="5175360" y="2352600"/>
            <a:chExt cx="3267000" cy="1116000"/>
          </a:xfrm>
        </p:grpSpPr>
        <p:pic>
          <p:nvPicPr>
            <p:cNvPr id="313" name="Explosion 1 14" descr=""/>
            <p:cNvPicPr/>
            <p:nvPr/>
          </p:nvPicPr>
          <p:blipFill>
            <a:blip r:embed="rId7"/>
            <a:stretch/>
          </p:blipFill>
          <p:spPr>
            <a:xfrm>
              <a:off x="5175360" y="2352600"/>
              <a:ext cx="3267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11920" y="2682720"/>
              <a:ext cx="1762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Argh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nder objects in front-to-back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fewer render targets in your MRT 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also means less fetches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less memory usag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oid slow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ort Cos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24000" y="1275840"/>
            <a:ext cx="4535280" cy="38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MD G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oid slow forma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, R32G32, R32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f, R32G32f, R16G16B16A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+ R32F, R16G16, R16 on older GP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otal export cost =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(Num RTs) * (Slowest 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5003640" y="1276200"/>
            <a:ext cx="40323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nVidia G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RT export cost proportional to bit depth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&lt;32bpp same speed as 32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RGB formats are slower</a:t>
            </a:r>
            <a:br>
              <a:rPr sz="1800"/>
            </a:b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1010102 and 111110 slower than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otal export cost = </a:t>
            </a:r>
            <a:br>
              <a:rPr sz="2400"/>
            </a:b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Cost(RT0)+Cost(RT1)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th Buffer as Textur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need to store depth into a color 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y re-use the depth buffer as texture input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ame Depth buffer can remain bound for depth rejection in DX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P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e render target storage for a few extra ALU instr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s used to pack / unpack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ample: normals with two components + 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 cost is typically negligible compared to the performance saving of writing and fetching to/from fewer tex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gressive packing may prevent filtering later 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.g. During post-process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 and Semi-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d light contributions to accumulation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use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ght volu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all c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ll lights as needed before sending them to the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render lights on skybox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428480"/>
            <a:ext cx="59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light volumes corresponding to light’s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ullscreen tri/quad (ambient or directional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phere (poin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e/pyramid (spo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 shapes (level ed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ight fit between light coverage and process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D projection of volume define shad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blend each light contribution to the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early depth/stencil culling optim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rapezoid 3"/>
          <p:cNvSpPr/>
          <p:nvPr/>
        </p:nvSpPr>
        <p:spPr>
          <a:xfrm rot="10800000">
            <a:off x="6299280" y="1418760"/>
            <a:ext cx="2665440" cy="30625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58720 h 3062520"/>
              <a:gd name="textAreaBottom" fmla="*/ 3062880 h 3062520"/>
            </a:gdLst>
            <a:ahLst/>
            <a:rect l="textAreaLeft" t="textAreaTop" r="textAreaRight" b="textAreaBottom"/>
            <a:pathLst>
              <a:path w="2665412" h="3061395">
                <a:moveTo>
                  <a:pt x="0" y="3061395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6139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 rot="19455600">
            <a:off x="6969240" y="1666440"/>
            <a:ext cx="693720" cy="704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decagon 5"/>
          <p:cNvSpPr/>
          <p:nvPr/>
        </p:nvSpPr>
        <p:spPr>
          <a:xfrm>
            <a:off x="6346800" y="1879560"/>
            <a:ext cx="1592280" cy="1513080"/>
          </a:xfrm>
          <a:custGeom>
            <a:avLst/>
            <a:gdLst>
              <a:gd name="textAreaLeft" fmla="*/ 213120 w 1592280"/>
              <a:gd name="textAreaRight" fmla="*/ 1379160 w 1592280"/>
              <a:gd name="textAreaTop" fmla="*/ 202680 h 1513080"/>
              <a:gd name="textAreaBottom" fmla="*/ 1310400 h 1513080"/>
            </a:gdLst>
            <a:ahLst/>
            <a:rect l="textAreaLeft" t="textAreaTop" r="textAreaRight" b="textAreaBottom"/>
            <a:pathLst>
              <a:path w="1592262" h="1512888">
                <a:moveTo>
                  <a:pt x="0" y="553745"/>
                </a:moveTo>
                <a:lnTo>
                  <a:pt x="213334" y="202699"/>
                </a:lnTo>
                <a:lnTo>
                  <a:pt x="582797" y="0"/>
                </a:lnTo>
                <a:lnTo>
                  <a:pt x="1009465" y="0"/>
                </a:lnTo>
                <a:lnTo>
                  <a:pt x="1378928" y="202699"/>
                </a:lnTo>
                <a:lnTo>
                  <a:pt x="1592262" y="553745"/>
                </a:lnTo>
                <a:lnTo>
                  <a:pt x="1592262" y="959143"/>
                </a:lnTo>
                <a:lnTo>
                  <a:pt x="1378928" y="1310189"/>
                </a:lnTo>
                <a:lnTo>
                  <a:pt x="1009465" y="1512888"/>
                </a:lnTo>
                <a:lnTo>
                  <a:pt x="582797" y="1512888"/>
                </a:lnTo>
                <a:lnTo>
                  <a:pt x="213334" y="1310189"/>
                </a:lnTo>
                <a:lnTo>
                  <a:pt x="0" y="95914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hoto"/>
          <p:cNvSpPr/>
          <p:nvPr/>
        </p:nvSpPr>
        <p:spPr>
          <a:xfrm rot="10800000">
            <a:off x="7356600" y="46065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rred Shading Optimiz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39640" y="3363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icolas Thibieroz, 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C:\Users\nthibieroz\Desktop\LVR1.jpg"/>
          <p:cNvPicPr/>
          <p:nvPr/>
        </p:nvPicPr>
        <p:blipFill>
          <a:blip r:embed="rId1"/>
          <a:stretch/>
        </p:blipFill>
        <p:spPr>
          <a:xfrm>
            <a:off x="108000" y="98748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C:\Users\nthibieroz\Desktop\LVR2.jpg"/>
          <p:cNvPicPr/>
          <p:nvPr/>
        </p:nvPicPr>
        <p:blipFill>
          <a:blip r:embed="rId2"/>
          <a:stretch/>
        </p:blipFill>
        <p:spPr>
          <a:xfrm>
            <a:off x="1547640" y="152244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Users\nthibieroz\Desktop\LVR3.jpg"/>
          <p:cNvPicPr/>
          <p:nvPr/>
        </p:nvPicPr>
        <p:blipFill>
          <a:blip r:embed="rId3"/>
          <a:stretch/>
        </p:blipFill>
        <p:spPr>
          <a:xfrm>
            <a:off x="2916360" y="2098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nthibieroz\Desktop\LVR4.jpg"/>
          <p:cNvPicPr/>
          <p:nvPr/>
        </p:nvPicPr>
        <p:blipFill>
          <a:blip r:embed="rId4"/>
          <a:stretch/>
        </p:blipFill>
        <p:spPr>
          <a:xfrm>
            <a:off x="4211640" y="2674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Users\nthibieroz\Desktop\LVR5.jpg"/>
          <p:cNvPicPr/>
          <p:nvPr/>
        </p:nvPicPr>
        <p:blipFill>
          <a:blip r:embed="rId5"/>
          <a:stretch/>
        </p:blipFill>
        <p:spPr>
          <a:xfrm>
            <a:off x="5486400" y="321948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8"/>
          <p:cNvSpPr/>
          <p:nvPr/>
        </p:nvSpPr>
        <p:spPr>
          <a:xfrm>
            <a:off x="395280" y="4227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ull slides available in backup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omet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428480"/>
            <a:ext cx="8578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ways make sure your light volumes are geometry-optimiz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both index re-use (post VS cache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equential vertex reads (pre VS cach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on oversight for algorithmically generated meshes (spheres, cone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important when depth/stencil-only rendering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 pixel shader = more likely to be VS fetch limited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28480"/>
            <a:ext cx="5554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 to light volumes: render a camera-facing quad for each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ad screen coordinates need to cover the extents of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er geometry but coarser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as simple as it se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pheres (point lights) project to ellipses in post-perspective spa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cause problems when close to c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rapezoid 4"/>
          <p:cNvSpPr/>
          <p:nvPr/>
        </p:nvSpPr>
        <p:spPr>
          <a:xfrm rot="10800000">
            <a:off x="5651640" y="1275480"/>
            <a:ext cx="3241440" cy="2519640"/>
          </a:xfrm>
          <a:custGeom>
            <a:avLst/>
            <a:gdLst>
              <a:gd name="textAreaLeft" fmla="*/ 702000 w 3241440"/>
              <a:gd name="textAreaRight" fmla="*/ 2539440 w 3241440"/>
              <a:gd name="textAreaTop" fmla="*/ 545760 h 2519640"/>
              <a:gd name="textAreaBottom" fmla="*/ 2520000 h 2519640"/>
            </a:gdLst>
            <a:ahLst/>
            <a:rect l="textAreaLeft" t="textAreaTop" r="textAreaRight" b="textAreaBottom"/>
            <a:pathLst>
              <a:path w="3240360" h="2520280">
                <a:moveTo>
                  <a:pt x="0" y="2520280"/>
                </a:moveTo>
                <a:lnTo>
                  <a:pt x="1052797" y="0"/>
                </a:lnTo>
                <a:lnTo>
                  <a:pt x="2187563" y="0"/>
                </a:lnTo>
                <a:lnTo>
                  <a:pt x="3240360" y="252028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6372360" y="1563840"/>
            <a:ext cx="1800000" cy="17794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6"/>
          <p:cNvSpPr/>
          <p:nvPr/>
        </p:nvSpPr>
        <p:spPr>
          <a:xfrm flipV="1">
            <a:off x="7308000" y="2452320"/>
            <a:ext cx="86364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8"/>
          <p:cNvSpPr/>
          <p:nvPr/>
        </p:nvSpPr>
        <p:spPr>
          <a:xfrm flipH="1" flipV="1">
            <a:off x="6372000" y="2452320"/>
            <a:ext cx="93636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442920" y="2859120"/>
            <a:ext cx="86508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2"/>
          <p:cNvSpPr/>
          <p:nvPr/>
        </p:nvSpPr>
        <p:spPr>
          <a:xfrm flipH="1">
            <a:off x="7308360" y="2859120"/>
            <a:ext cx="79236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4"/>
          <p:cNvSpPr/>
          <p:nvPr/>
        </p:nvSpPr>
        <p:spPr>
          <a:xfrm>
            <a:off x="6372360" y="245268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>
            <a:off x="7236000" y="24098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41"/>
          <p:cNvSpPr/>
          <p:nvPr/>
        </p:nvSpPr>
        <p:spPr>
          <a:xfrm flipV="1">
            <a:off x="6443640" y="2471760"/>
            <a:ext cx="803160" cy="3873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45"/>
          <p:cNvSpPr/>
          <p:nvPr/>
        </p:nvSpPr>
        <p:spPr>
          <a:xfrm flipH="1" flipV="1">
            <a:off x="7308360" y="2479680"/>
            <a:ext cx="792360" cy="3794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9"/>
          <p:cNvSpPr/>
          <p:nvPr/>
        </p:nvSpPr>
        <p:spPr>
          <a:xfrm>
            <a:off x="7885080" y="36511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0"/>
          <p:cNvSpPr/>
          <p:nvPr/>
        </p:nvSpPr>
        <p:spPr>
          <a:xfrm>
            <a:off x="5148360" y="11224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1"/>
          <p:cNvSpPr/>
          <p:nvPr/>
        </p:nvSpPr>
        <p:spPr>
          <a:xfrm>
            <a:off x="6804000" y="47322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6948360" y="2066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\\atidesktop1\Shared\DX11MeshViewer Screenshots\quadlights.jpg"/>
          <p:cNvPicPr/>
          <p:nvPr/>
        </p:nvPicPr>
        <p:blipFill>
          <a:blip r:embed="rId2"/>
          <a:stretch/>
        </p:blipFill>
        <p:spPr>
          <a:xfrm>
            <a:off x="-468360" y="-426960"/>
            <a:ext cx="10004400" cy="58071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-36360" y="0"/>
            <a:ext cx="31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lights as qu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\\atidesktop1\Shared\DX11MeshViewer Screenshots\quadlight_zoom_in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-36360" y="0"/>
            <a:ext cx="460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\\atidesktop1\Shared\DX11MeshViewer Screenshots\quadlight_zoom_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-36360" y="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24000" y="1428480"/>
            <a:ext cx="61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render each quad o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cess light equation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Min Z of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arly Z will reject lights behind geometry with 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tch out for clipp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ed to clamp quad Z to near clip plane Z if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ght MinZ &lt; Near Clip Plane Z &lt; Light Max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ves on geometry cost but not as accurate as volu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150080" y="9792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SwapChai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hoto"/>
          <p:cNvSpPr/>
          <p:nvPr/>
        </p:nvSpPr>
        <p:spPr>
          <a:xfrm rot="10800000">
            <a:off x="75009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odecagon 5"/>
          <p:cNvSpPr/>
          <p:nvPr/>
        </p:nvSpPr>
        <p:spPr>
          <a:xfrm>
            <a:off x="7074000" y="1924200"/>
            <a:ext cx="720720" cy="718920"/>
          </a:xfrm>
          <a:custGeom>
            <a:avLst/>
            <a:gdLst>
              <a:gd name="textAreaLeft" fmla="*/ 96480 w 720720"/>
              <a:gd name="textAreaRight" fmla="*/ 624240 w 72072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720080" h="720080">
                <a:moveTo>
                  <a:pt x="0" y="263563"/>
                </a:moveTo>
                <a:lnTo>
                  <a:pt x="96477" y="96477"/>
                </a:lnTo>
                <a:lnTo>
                  <a:pt x="263563" y="0"/>
                </a:lnTo>
                <a:lnTo>
                  <a:pt x="456517" y="0"/>
                </a:lnTo>
                <a:lnTo>
                  <a:pt x="623603" y="96477"/>
                </a:lnTo>
                <a:lnTo>
                  <a:pt x="720080" y="263563"/>
                </a:lnTo>
                <a:lnTo>
                  <a:pt x="720080" y="456517"/>
                </a:lnTo>
                <a:lnTo>
                  <a:pt x="623603" y="623603"/>
                </a:lnTo>
                <a:lnTo>
                  <a:pt x="456517" y="720080"/>
                </a:lnTo>
                <a:lnTo>
                  <a:pt x="263563" y="720080"/>
                </a:lnTo>
                <a:lnTo>
                  <a:pt x="96477" y="623603"/>
                </a:lnTo>
                <a:lnTo>
                  <a:pt x="0" y="456517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rapezoid 10"/>
          <p:cNvSpPr/>
          <p:nvPr/>
        </p:nvSpPr>
        <p:spPr>
          <a:xfrm rot="10800000">
            <a:off x="64436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6"/>
          <p:cNvSpPr/>
          <p:nvPr/>
        </p:nvSpPr>
        <p:spPr>
          <a:xfrm>
            <a:off x="7866000" y="2417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in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7866000" y="1770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ax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2"/>
          <p:cNvSpPr/>
          <p:nvPr/>
        </p:nvSpPr>
        <p:spPr>
          <a:xfrm rot="2115600">
            <a:off x="7686360" y="3219480"/>
            <a:ext cx="38880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4"/>
          <p:cNvSpPr/>
          <p:nvPr/>
        </p:nvSpPr>
        <p:spPr>
          <a:xfrm>
            <a:off x="7083360" y="2633760"/>
            <a:ext cx="71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rectCompute Ligh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0940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ee Johan Andersson’s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Accessing Light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428480"/>
            <a:ext cx="43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void using dynamic constant buffer indexing in Pixel Sh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generates redundant memory operations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repeated for every pix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stead fetch light properties from CB in VS (or 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nd pass them to PS as interpol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o actual interpolation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Use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nointerpolation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to reduce number of shader instr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4643280" y="1405080"/>
            <a:ext cx="4429440" cy="29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LIGHT_STR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buffer cbPointLightArr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LIGHT_STRUCT g_Light[NUM_LIGHTS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PS_PointLight(PS_INPUT i) : SV_TAR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 // ..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uint uIndex = i.uPrimIndex/2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 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LightPos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Pos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 rot="21304800">
            <a:off x="6262560" y="3521160"/>
            <a:ext cx="2409840" cy="893520"/>
          </a:xfrm>
          <a:prstGeom prst="ellipse">
            <a:avLst/>
          </a:prstGeom>
          <a:noFill/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643280" y="1407960"/>
            <a:ext cx="4429440" cy="360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S_QUAD_INPUT VS_PointLight(VS_INPUT 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PS_QUAD_INPUT Out=(PS_QUAD_INPUT)0;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position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Position = float4(i.vNDCPosition, 1.0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light properties to 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 uIndex = i.uVertexIndex/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Color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Pos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LightIndex].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PS_QUAD_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Color: L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Pos  : L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vPosition                  : SV_POSITI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xture Read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428480"/>
            <a:ext cx="86868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 fetch G-Buffer data for each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sure point sampling filtering is us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MD: Point sampling filtering is fast for all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nVidia: prefer 16F over 32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t-processing passes may require filtering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755640" y="3867120"/>
            <a:ext cx="41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684360" y="372420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MD: watch out for slow bilinear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16G16B16A16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B32[A32]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5148360" y="37670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nVidia: no penalty for using bilinear over point sampling filtering for formats &lt; 128 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G-Buffer Building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sosceles Triangle 8"/>
          <p:cNvSpPr/>
          <p:nvPr/>
        </p:nvSpPr>
        <p:spPr>
          <a:xfrm rot="20605800">
            <a:off x="22496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sosceles Triangle 11"/>
          <p:cNvSpPr/>
          <p:nvPr/>
        </p:nvSpPr>
        <p:spPr>
          <a:xfrm rot="1231800">
            <a:off x="2009520" y="3341160"/>
            <a:ext cx="48096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5"/>
          <p:cNvSpPr/>
          <p:nvPr/>
        </p:nvSpPr>
        <p:spPr>
          <a:xfrm>
            <a:off x="2016000" y="4371840"/>
            <a:ext cx="6494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3097080" y="3710160"/>
            <a:ext cx="719280" cy="28872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9"/>
          <p:cNvSpPr/>
          <p:nvPr/>
        </p:nvSpPr>
        <p:spPr>
          <a:xfrm>
            <a:off x="3097080" y="4573440"/>
            <a:ext cx="719280" cy="289080"/>
          </a:xfrm>
          <a:prstGeom prst="rightArrow">
            <a:avLst>
              <a:gd name="adj1" fmla="val 50000"/>
              <a:gd name="adj2" fmla="val 49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5257800" y="3133800"/>
            <a:ext cx="2232000" cy="1368360"/>
            <a:chOff x="5257800" y="3133800"/>
            <a:chExt cx="2232000" cy="1368360"/>
          </a:xfrm>
        </p:grpSpPr>
        <p:sp>
          <p:nvSpPr>
            <p:cNvPr id="57" name="Rectangle 18"/>
            <p:cNvSpPr/>
            <p:nvPr/>
          </p:nvSpPr>
          <p:spPr>
            <a:xfrm>
              <a:off x="5257800" y="31338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19"/>
            <p:cNvSpPr/>
            <p:nvPr/>
          </p:nvSpPr>
          <p:spPr>
            <a:xfrm rot="20605800">
              <a:off x="5743080" y="36990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Isosceles Triangle 20"/>
            <p:cNvSpPr/>
            <p:nvPr/>
          </p:nvSpPr>
          <p:spPr>
            <a:xfrm rot="1231800">
              <a:off x="5502960" y="37015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ube 21"/>
            <p:cNvSpPr/>
            <p:nvPr/>
          </p:nvSpPr>
          <p:spPr>
            <a:xfrm>
              <a:off x="6553800" y="32778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31"/>
          <p:cNvSpPr/>
          <p:nvPr/>
        </p:nvSpPr>
        <p:spPr>
          <a:xfrm>
            <a:off x="428472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5"/>
          <p:cNvGrpSpPr/>
          <p:nvPr/>
        </p:nvGrpSpPr>
        <p:grpSpPr>
          <a:xfrm>
            <a:off x="5191200" y="1347840"/>
            <a:ext cx="2305080" cy="1368360"/>
            <a:chOff x="5191200" y="1347840"/>
            <a:chExt cx="2305080" cy="1368360"/>
          </a:xfrm>
        </p:grpSpPr>
        <p:sp>
          <p:nvSpPr>
            <p:cNvPr id="63" name="Rectangle 26"/>
            <p:cNvSpPr/>
            <p:nvPr/>
          </p:nvSpPr>
          <p:spPr>
            <a:xfrm>
              <a:off x="5263200" y="1347840"/>
              <a:ext cx="223308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Isosceles Triangle 27"/>
            <p:cNvGrpSpPr/>
            <p:nvPr/>
          </p:nvGrpSpPr>
          <p:grpSpPr>
            <a:xfrm>
              <a:off x="5827680" y="1914480"/>
              <a:ext cx="463320" cy="749880"/>
              <a:chOff x="5827680" y="1914480"/>
              <a:chExt cx="463320" cy="749880"/>
            </a:xfrm>
          </p:grpSpPr>
          <p:pic>
            <p:nvPicPr>
              <p:cNvPr id="6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5827680" y="1914480"/>
                <a:ext cx="4633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20605800">
                <a:off x="5895000" y="225108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Isosceles Triangle 28"/>
            <p:cNvGrpSpPr/>
            <p:nvPr/>
          </p:nvGrpSpPr>
          <p:grpSpPr>
            <a:xfrm>
              <a:off x="5388480" y="1908360"/>
              <a:ext cx="487800" cy="756000"/>
              <a:chOff x="5388480" y="1908360"/>
              <a:chExt cx="487800" cy="756000"/>
            </a:xfrm>
          </p:grpSpPr>
          <p:pic>
            <p:nvPicPr>
              <p:cNvPr id="6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8480" y="1908360"/>
                <a:ext cx="48780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231800">
                <a:off x="5558400" y="2233080"/>
                <a:ext cx="24120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Cube 29"/>
            <p:cNvGrpSpPr/>
            <p:nvPr/>
          </p:nvGrpSpPr>
          <p:grpSpPr>
            <a:xfrm>
              <a:off x="6541200" y="1475280"/>
              <a:ext cx="682920" cy="682920"/>
              <a:chOff x="6541200" y="1475280"/>
              <a:chExt cx="682920" cy="682920"/>
            </a:xfrm>
          </p:grpSpPr>
          <p:pic>
            <p:nvPicPr>
              <p:cNvPr id="7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1200" y="1475280"/>
                <a:ext cx="682920" cy="6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6559560" y="1653480"/>
                <a:ext cx="4863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2"/>
            <p:cNvSpPr/>
            <p:nvPr/>
          </p:nvSpPr>
          <p:spPr>
            <a:xfrm>
              <a:off x="5191200" y="13478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Up-Down Arrow 34"/>
          <p:cNvSpPr/>
          <p:nvPr/>
        </p:nvSpPr>
        <p:spPr>
          <a:xfrm>
            <a:off x="6300720" y="2787480"/>
            <a:ext cx="142920" cy="289080"/>
          </a:xfrm>
          <a:prstGeom prst="upDownArrow">
            <a:avLst>
              <a:gd name="adj1" fmla="val 50000"/>
              <a:gd name="adj2" fmla="val 505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3"/>
          <p:cNvGrpSpPr/>
          <p:nvPr/>
        </p:nvGrpSpPr>
        <p:grpSpPr>
          <a:xfrm>
            <a:off x="4754520" y="3354480"/>
            <a:ext cx="2232000" cy="1368360"/>
            <a:chOff x="4754520" y="3354480"/>
            <a:chExt cx="2232000" cy="1368360"/>
          </a:xfrm>
        </p:grpSpPr>
        <p:sp>
          <p:nvSpPr>
            <p:cNvPr id="76" name="Rectangle 35"/>
            <p:cNvSpPr/>
            <p:nvPr/>
          </p:nvSpPr>
          <p:spPr>
            <a:xfrm>
              <a:off x="4754520" y="335448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Isosceles Triangle 36"/>
            <p:cNvGrpSpPr/>
            <p:nvPr/>
          </p:nvGrpSpPr>
          <p:grpSpPr>
            <a:xfrm>
              <a:off x="5322240" y="3920040"/>
              <a:ext cx="457200" cy="749880"/>
              <a:chOff x="5322240" y="3920040"/>
              <a:chExt cx="457200" cy="749880"/>
            </a:xfrm>
          </p:grpSpPr>
          <p:pic>
            <p:nvPicPr>
              <p:cNvPr id="78" name="Isosceles Triangl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22240" y="3920040"/>
                <a:ext cx="4572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20605800">
                <a:off x="5385960" y="425772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Isosceles Triangle 37"/>
            <p:cNvGrpSpPr/>
            <p:nvPr/>
          </p:nvGrpSpPr>
          <p:grpSpPr>
            <a:xfrm>
              <a:off x="4876920" y="3913920"/>
              <a:ext cx="493560" cy="756000"/>
              <a:chOff x="4876920" y="3913920"/>
              <a:chExt cx="493560" cy="756000"/>
            </a:xfrm>
          </p:grpSpPr>
          <p:pic>
            <p:nvPicPr>
              <p:cNvPr id="81" name="Isosceles Triangle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3913920"/>
                <a:ext cx="49356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231800">
                <a:off x="5049360" y="423936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Cube 38"/>
            <p:cNvSpPr/>
            <p:nvPr/>
          </p:nvSpPr>
          <p:spPr>
            <a:xfrm>
              <a:off x="6050520" y="349848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0"/>
            <p:cNvSpPr/>
            <p:nvPr/>
          </p:nvSpPr>
          <p:spPr>
            <a:xfrm>
              <a:off x="6048000" y="367524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Parallelogram 41"/>
            <p:cNvGrpSpPr/>
            <p:nvPr/>
          </p:nvGrpSpPr>
          <p:grpSpPr>
            <a:xfrm>
              <a:off x="6029280" y="3480840"/>
              <a:ext cx="719280" cy="207000"/>
              <a:chOff x="6029280" y="3480840"/>
              <a:chExt cx="719280" cy="207000"/>
            </a:xfrm>
          </p:grpSpPr>
          <p:pic>
            <p:nvPicPr>
              <p:cNvPr id="86" name="Parallelogram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6029280" y="348084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68240" y="352764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Parallelogram 42"/>
            <p:cNvSpPr/>
            <p:nvPr/>
          </p:nvSpPr>
          <p:spPr>
            <a:xfrm flipH="1" rot="16200000">
              <a:off x="6307200" y="373068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4249800" y="3565440"/>
            <a:ext cx="2232000" cy="1368360"/>
            <a:chOff x="4249800" y="3565440"/>
            <a:chExt cx="2232000" cy="1368360"/>
          </a:xfrm>
        </p:grpSpPr>
        <p:sp>
          <p:nvSpPr>
            <p:cNvPr id="90" name="Rectangle 6"/>
            <p:cNvSpPr/>
            <p:nvPr/>
          </p:nvSpPr>
          <p:spPr>
            <a:xfrm>
              <a:off x="4249800" y="356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Isosceles Triangle 10"/>
            <p:cNvSpPr/>
            <p:nvPr/>
          </p:nvSpPr>
          <p:spPr>
            <a:xfrm rot="20605800">
              <a:off x="4735080" y="413064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12"/>
            <p:cNvSpPr/>
            <p:nvPr/>
          </p:nvSpPr>
          <p:spPr>
            <a:xfrm rot="1231800">
              <a:off x="4494960" y="413316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ube 13"/>
            <p:cNvSpPr/>
            <p:nvPr/>
          </p:nvSpPr>
          <p:spPr>
            <a:xfrm>
              <a:off x="5545800" y="370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44"/>
          <p:cNvSpPr/>
          <p:nvPr/>
        </p:nvSpPr>
        <p:spPr>
          <a:xfrm>
            <a:off x="421164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483552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unique scene geometry pass i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e material properties (albedo, normal, specular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to depth buffer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lending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itively blending lights into accumulation buffer is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er blending cost when “fatter” color RT formats ar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ending even more expensive when MSAA is enab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Discard() to get rid of pixels not contributing any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regardless of the light processing metho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dot(vColor.xyz, 1.0) == 0 ) discar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result in a significant increase in performan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SAA with (semi-) deferred engines more complex than “just” enabling MS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” render targets must be multisam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rease memory cost considerabl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ch qualifying sample must be individually 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acts performance significa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28480"/>
            <a:ext cx="8939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cting pixel edges reduce processing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pixel shading on non-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sample shading on 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ge detection via centroid is a neat trick, but is not that use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s too many edges that don’t need to be shaded per s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when tessellation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n’t detect edges from transparent tex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ter to detect edges checking depth and normal discontin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 consider alternative FSAA method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\\atidesktop1\Shared\DX11MeshViewer Screenshots\King_edges_optimized.jpg"/>
          <p:cNvPicPr/>
          <p:nvPr/>
        </p:nvPicPr>
        <p:blipFill>
          <a:blip r:embed="rId2"/>
          <a:stretch/>
        </p:blipFill>
        <p:spPr>
          <a:xfrm>
            <a:off x="3816360" y="173340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\\atidesktop1\Shared\DX11MeshViewer Screenshots\King_edges_crap.jpg"/>
          <p:cNvPicPr/>
          <p:nvPr/>
        </p:nvPicPr>
        <p:blipFill>
          <a:blip r:embed="rId3"/>
          <a:stretch/>
        </p:blipFill>
        <p:spPr>
          <a:xfrm>
            <a:off x="3816360" y="-95724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:\Users\nthibieroz\Desktop\King_normal.jpg"/>
          <p:cNvPicPr/>
          <p:nvPr/>
        </p:nvPicPr>
        <p:blipFill>
          <a:blip r:embed="rId4"/>
          <a:stretch/>
        </p:blipFill>
        <p:spPr>
          <a:xfrm>
            <a:off x="-36360" y="-446040"/>
            <a:ext cx="5830560" cy="5610240"/>
          </a:xfrm>
          <a:prstGeom prst="rect">
            <a:avLst/>
          </a:prstGeom>
          <a:ln w="0">
            <a:noFill/>
          </a:ln>
        </p:spPr>
      </p:pic>
      <p:sp>
        <p:nvSpPr>
          <p:cNvPr id="404" name="Straight Connector 8"/>
          <p:cNvSpPr/>
          <p:nvPr/>
        </p:nvSpPr>
        <p:spPr>
          <a:xfrm>
            <a:off x="5778360" y="2604960"/>
            <a:ext cx="419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1"/>
          <p:cNvSpPr/>
          <p:nvPr/>
        </p:nvSpPr>
        <p:spPr>
          <a:xfrm>
            <a:off x="5738040" y="-668160"/>
            <a:ext cx="57240" cy="5991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C:\Users\nthibieroz\AppData\Local\Microsoft\Windows\Temporary Internet Files\Content.IE5\4DW186H3\MCj04347130000[1].wmf"/>
          <p:cNvPicPr/>
          <p:nvPr/>
        </p:nvPicPr>
        <p:blipFill>
          <a:blip r:embed="rId5"/>
          <a:stretch/>
        </p:blipFill>
        <p:spPr>
          <a:xfrm>
            <a:off x="5940360" y="4383000"/>
            <a:ext cx="647640" cy="679680"/>
          </a:xfrm>
          <a:prstGeom prst="rect">
            <a:avLst/>
          </a:prstGeom>
          <a:ln w="0">
            <a:noFill/>
          </a:ln>
        </p:spPr>
      </p:pic>
      <p:sp>
        <p:nvSpPr>
          <p:cNvPr id="407" name="Multiply 15"/>
          <p:cNvSpPr/>
          <p:nvPr/>
        </p:nvSpPr>
        <p:spPr>
          <a:xfrm>
            <a:off x="5724360" y="1779480"/>
            <a:ext cx="792360" cy="855720"/>
          </a:xfrm>
          <a:custGeom>
            <a:avLst/>
            <a:gdLst>
              <a:gd name="textAreaLeft" fmla="*/ 155880 w 792360"/>
              <a:gd name="textAreaRight" fmla="*/ 636480 w 792360"/>
              <a:gd name="textAreaTop" fmla="*/ 173880 h 855720"/>
              <a:gd name="textAreaBottom" fmla="*/ 681840 h 855720"/>
            </a:gdLst>
            <a:ahLst/>
            <a:rect l="textAreaLeft" t="textAreaTop" r="textAreaRight" b="textAreaBottom"/>
            <a:pathLst>
              <a:path w="792088" h="855538">
                <a:moveTo>
                  <a:pt x="156078" y="237107"/>
                </a:moveTo>
                <a:lnTo>
                  <a:pt x="224401" y="173851"/>
                </a:lnTo>
                <a:lnTo>
                  <a:pt x="396044" y="359243"/>
                </a:lnTo>
                <a:lnTo>
                  <a:pt x="567687" y="173851"/>
                </a:lnTo>
                <a:lnTo>
                  <a:pt x="636010" y="237107"/>
                </a:lnTo>
                <a:lnTo>
                  <a:pt x="459488" y="427769"/>
                </a:lnTo>
                <a:lnTo>
                  <a:pt x="636010" y="618431"/>
                </a:lnTo>
                <a:lnTo>
                  <a:pt x="567687" y="681687"/>
                </a:lnTo>
                <a:lnTo>
                  <a:pt x="396044" y="496295"/>
                </a:lnTo>
                <a:lnTo>
                  <a:pt x="224401" y="681687"/>
                </a:lnTo>
                <a:lnTo>
                  <a:pt x="156078" y="618431"/>
                </a:lnTo>
                <a:lnTo>
                  <a:pt x="332600" y="42776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tle 1"/>
          <p:cNvSpPr/>
          <p:nvPr/>
        </p:nvSpPr>
        <p:spPr>
          <a:xfrm>
            <a:off x="971640" y="-157320"/>
            <a:ext cx="5114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MSAA Edge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4920" y="4422240"/>
            <a:ext cx="504036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428480"/>
            <a:ext cx="5986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inside the light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GRE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back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samples fully inside the volume get sh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mal use of early Z cu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need for ste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1"/>
          <p:cNvSpPr/>
          <p:nvPr/>
        </p:nvSpPr>
        <p:spPr>
          <a:xfrm rot="19455600">
            <a:off x="733428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hoto"/>
          <p:cNvSpPr/>
          <p:nvPr/>
        </p:nvSpPr>
        <p:spPr>
          <a:xfrm rot="10800000">
            <a:off x="736920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Dodecagon 13"/>
          <p:cNvSpPr/>
          <p:nvPr/>
        </p:nvSpPr>
        <p:spPr>
          <a:xfrm>
            <a:off x="6227640" y="2351160"/>
            <a:ext cx="5302440" cy="5076720"/>
          </a:xfrm>
          <a:custGeom>
            <a:avLst/>
            <a:gdLst>
              <a:gd name="textAreaLeft" fmla="*/ 710280 w 5302440"/>
              <a:gd name="textAreaRight" fmla="*/ 4592160 w 5302440"/>
              <a:gd name="textAreaTop" fmla="*/ 680040 h 5076720"/>
              <a:gd name="textAreaBottom" fmla="*/ 4396680 h 5076720"/>
            </a:gdLst>
            <a:ahLst/>
            <a:rect l="textAreaLeft" t="textAreaTop" r="textAreaRight" b="textAreaBottom"/>
            <a:pathLst>
              <a:path w="5302250" h="5076825">
                <a:moveTo>
                  <a:pt x="0" y="1858212"/>
                </a:moveTo>
                <a:lnTo>
                  <a:pt x="710403" y="680201"/>
                </a:lnTo>
                <a:lnTo>
                  <a:pt x="1940721" y="0"/>
                </a:lnTo>
                <a:lnTo>
                  <a:pt x="3361528" y="0"/>
                </a:lnTo>
                <a:lnTo>
                  <a:pt x="4591847" y="680201"/>
                </a:lnTo>
                <a:lnTo>
                  <a:pt x="5302250" y="1858212"/>
                </a:lnTo>
                <a:lnTo>
                  <a:pt x="5302250" y="3218613"/>
                </a:lnTo>
                <a:lnTo>
                  <a:pt x="4591847" y="4396625"/>
                </a:lnTo>
                <a:lnTo>
                  <a:pt x="3361528" y="5076825"/>
                </a:lnTo>
                <a:lnTo>
                  <a:pt x="1940721" y="5076825"/>
                </a:lnTo>
                <a:lnTo>
                  <a:pt x="710403" y="4396625"/>
                </a:lnTo>
                <a:lnTo>
                  <a:pt x="0" y="321861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4"/>
          <p:cNvSpPr/>
          <p:nvPr/>
        </p:nvSpPr>
        <p:spPr>
          <a:xfrm flipH="1" flipV="1">
            <a:off x="7156080" y="2859120"/>
            <a:ext cx="82440" cy="380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5"/>
          <p:cNvSpPr/>
          <p:nvPr/>
        </p:nvSpPr>
        <p:spPr>
          <a:xfrm flipV="1">
            <a:off x="7990920" y="2350800"/>
            <a:ext cx="177480" cy="10126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18464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21" name="Straight Connector 17"/>
          <p:cNvSpPr/>
          <p:nvPr/>
        </p:nvSpPr>
        <p:spPr>
          <a:xfrm flipV="1">
            <a:off x="7180200" y="2351160"/>
            <a:ext cx="988920" cy="52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rapezoid 18"/>
          <p:cNvSpPr/>
          <p:nvPr/>
        </p:nvSpPr>
        <p:spPr>
          <a:xfrm rot="10800000">
            <a:off x="631188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24" name="Rectangle 20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25" name="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Straight Connector 21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23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428480"/>
            <a:ext cx="5915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vious optimization does not work if camera is outsid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 faces also pass the Z=GREATER test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ose objects shouldn’t be l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results in wasted process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34" name="Rectangle 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3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Straight Connector 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 rot="19455600">
            <a:off x="7331040" y="3865320"/>
            <a:ext cx="527040" cy="492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hoto"/>
          <p:cNvSpPr/>
          <p:nvPr/>
        </p:nvSpPr>
        <p:spPr>
          <a:xfrm rot="10800000">
            <a:off x="7345440" y="4632480"/>
            <a:ext cx="573120" cy="46008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440 h 460080"/>
              <a:gd name="textAreaBottom" fmla="*/ 645480 h 460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odecagon 11"/>
          <p:cNvSpPr/>
          <p:nvPr/>
        </p:nvSpPr>
        <p:spPr>
          <a:xfrm>
            <a:off x="6408720" y="1477800"/>
            <a:ext cx="2433600" cy="223704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7040"/>
              <a:gd name="textAreaBottom" fmla="*/ 1937520 h 223704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12"/>
          <p:cNvSpPr/>
          <p:nvPr/>
        </p:nvSpPr>
        <p:spPr>
          <a:xfrm flipV="1">
            <a:off x="7299360" y="1476360"/>
            <a:ext cx="6523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13"/>
          <p:cNvSpPr/>
          <p:nvPr/>
        </p:nvSpPr>
        <p:spPr>
          <a:xfrm flipH="1" flipV="1">
            <a:off x="6734160" y="1777680"/>
            <a:ext cx="480960" cy="233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4"/>
          <p:cNvSpPr/>
          <p:nvPr/>
        </p:nvSpPr>
        <p:spPr>
          <a:xfrm flipV="1">
            <a:off x="7956000" y="1709280"/>
            <a:ext cx="430200" cy="2467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5"/>
          <p:cNvSpPr/>
          <p:nvPr/>
        </p:nvSpPr>
        <p:spPr>
          <a:xfrm flipV="1">
            <a:off x="6734160" y="1469520"/>
            <a:ext cx="590400" cy="29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 flipV="1">
            <a:off x="7941960" y="1476000"/>
            <a:ext cx="460440" cy="2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ultiply 17"/>
          <p:cNvSpPr/>
          <p:nvPr/>
        </p:nvSpPr>
        <p:spPr>
          <a:xfrm>
            <a:off x="8109000" y="415620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rapezoid 18"/>
          <p:cNvSpPr/>
          <p:nvPr/>
        </p:nvSpPr>
        <p:spPr>
          <a:xfrm rot="10800000">
            <a:off x="6288120" y="1418760"/>
            <a:ext cx="2665440" cy="30877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3400 h 3087720"/>
              <a:gd name="textAreaBottom" fmla="*/ 3088080 h 3087720"/>
            </a:gdLst>
            <a:ahLst/>
            <a:rect l="textAreaLeft" t="textAreaTop" r="textAreaRight" b="textAreaBottom"/>
            <a:pathLst>
              <a:path w="2665412" h="3086620">
                <a:moveTo>
                  <a:pt x="0" y="3086620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8662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3"/>
          <p:cNvSpPr/>
          <p:nvPr/>
        </p:nvSpPr>
        <p:spPr>
          <a:xfrm rot="19455600">
            <a:off x="731844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hoto"/>
          <p:cNvSpPr/>
          <p:nvPr/>
        </p:nvSpPr>
        <p:spPr>
          <a:xfrm rot="10800000">
            <a:off x="73533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odecagon 5"/>
          <p:cNvSpPr/>
          <p:nvPr/>
        </p:nvSpPr>
        <p:spPr>
          <a:xfrm>
            <a:off x="6416640" y="60480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22748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7"/>
          <p:cNvSpPr/>
          <p:nvPr/>
        </p:nvSpPr>
        <p:spPr>
          <a:xfrm flipH="1" flipV="1">
            <a:off x="7089840" y="2720880"/>
            <a:ext cx="133200" cy="5191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8"/>
          <p:cNvSpPr/>
          <p:nvPr/>
        </p:nvSpPr>
        <p:spPr>
          <a:xfrm flipV="1">
            <a:off x="7975440" y="2779200"/>
            <a:ext cx="115920" cy="5842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9"/>
          <p:cNvSpPr/>
          <p:nvPr/>
        </p:nvSpPr>
        <p:spPr>
          <a:xfrm>
            <a:off x="7307280" y="2841480"/>
            <a:ext cx="65232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7094520" y="2739960"/>
            <a:ext cx="212760" cy="101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11"/>
          <p:cNvSpPr/>
          <p:nvPr/>
        </p:nvSpPr>
        <p:spPr>
          <a:xfrm flipV="1">
            <a:off x="7959600" y="2766600"/>
            <a:ext cx="138240" cy="74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rapezoid 12"/>
          <p:cNvSpPr/>
          <p:nvPr/>
        </p:nvSpPr>
        <p:spPr>
          <a:xfrm rot="10800000">
            <a:off x="62960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6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64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generates wasted processing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ehi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7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74" name="Rectangl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9"/>
          <p:cNvSpPr/>
          <p:nvPr/>
        </p:nvSpPr>
        <p:spPr>
          <a:xfrm rot="17821800">
            <a:off x="8018640" y="1630080"/>
            <a:ext cx="5666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hoto"/>
          <p:cNvSpPr/>
          <p:nvPr/>
        </p:nvSpPr>
        <p:spPr>
          <a:xfrm rot="10800000">
            <a:off x="7345440" y="463824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odecagon 22"/>
          <p:cNvSpPr/>
          <p:nvPr/>
        </p:nvSpPr>
        <p:spPr>
          <a:xfrm>
            <a:off x="6659640" y="2147760"/>
            <a:ext cx="2016000" cy="1936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259200 h 1936800"/>
              <a:gd name="textAreaBottom" fmla="*/ 1677600 h 1936800"/>
            </a:gdLst>
            <a:ahLst/>
            <a:rect l="textAreaLeft" t="textAreaTop" r="textAreaRight" b="textAreaBottom"/>
            <a:pathLst>
              <a:path w="2016224" h="1936278">
                <a:moveTo>
                  <a:pt x="0" y="708714"/>
                </a:moveTo>
                <a:lnTo>
                  <a:pt x="270137" y="259425"/>
                </a:lnTo>
                <a:lnTo>
                  <a:pt x="737975" y="0"/>
                </a:lnTo>
                <a:lnTo>
                  <a:pt x="1278249" y="0"/>
                </a:lnTo>
                <a:lnTo>
                  <a:pt x="1746087" y="259425"/>
                </a:lnTo>
                <a:lnTo>
                  <a:pt x="2016224" y="708714"/>
                </a:lnTo>
                <a:lnTo>
                  <a:pt x="2016224" y="1227564"/>
                </a:lnTo>
                <a:lnTo>
                  <a:pt x="1746087" y="1676853"/>
                </a:lnTo>
                <a:lnTo>
                  <a:pt x="1278249" y="1936278"/>
                </a:lnTo>
                <a:lnTo>
                  <a:pt x="737975" y="1936278"/>
                </a:lnTo>
                <a:lnTo>
                  <a:pt x="270137" y="1676853"/>
                </a:lnTo>
                <a:lnTo>
                  <a:pt x="0" y="1227564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3"/>
          <p:cNvSpPr/>
          <p:nvPr/>
        </p:nvSpPr>
        <p:spPr>
          <a:xfrm flipV="1">
            <a:off x="7667640" y="2066400"/>
            <a:ext cx="279360" cy="20178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4"/>
          <p:cNvSpPr/>
          <p:nvPr/>
        </p:nvSpPr>
        <p:spPr>
          <a:xfrm flipV="1">
            <a:off x="7939080" y="1779120"/>
            <a:ext cx="736560" cy="2305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5"/>
          <p:cNvSpPr/>
          <p:nvPr/>
        </p:nvSpPr>
        <p:spPr>
          <a:xfrm flipV="1">
            <a:off x="7667640" y="4084560"/>
            <a:ext cx="271440" cy="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Multiply 27"/>
          <p:cNvSpPr/>
          <p:nvPr/>
        </p:nvSpPr>
        <p:spPr>
          <a:xfrm>
            <a:off x="8101080" y="416412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rapezoid 28"/>
          <p:cNvSpPr/>
          <p:nvPr/>
        </p:nvSpPr>
        <p:spPr>
          <a:xfrm rot="10800000">
            <a:off x="6288120" y="1418760"/>
            <a:ext cx="2665440" cy="309420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4480 h 3094200"/>
              <a:gd name="textAreaBottom" fmla="*/ 3094560 h 3094200"/>
            </a:gdLst>
            <a:ahLst/>
            <a:rect l="textAreaLeft" t="textAreaTop" r="textAreaRight" b="textAreaBottom"/>
            <a:pathLst>
              <a:path w="2665412" h="3093282">
                <a:moveTo>
                  <a:pt x="0" y="3093282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9328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40"/>
          <p:cNvSpPr/>
          <p:nvPr/>
        </p:nvSpPr>
        <p:spPr>
          <a:xfrm>
            <a:off x="3492360" y="4371840"/>
            <a:ext cx="57492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1"/>
          <p:cNvSpPr/>
          <p:nvPr/>
        </p:nvSpPr>
        <p:spPr>
          <a:xfrm>
            <a:off x="3348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42"/>
          <p:cNvSpPr/>
          <p:nvPr/>
        </p:nvSpPr>
        <p:spPr>
          <a:xfrm>
            <a:off x="4317840" y="3651120"/>
            <a:ext cx="39852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43"/>
          <p:cNvSpPr/>
          <p:nvPr/>
        </p:nvSpPr>
        <p:spPr>
          <a:xfrm>
            <a:off x="4317840" y="4516560"/>
            <a:ext cx="398520" cy="287280"/>
          </a:xfrm>
          <a:prstGeom prst="rightArrow">
            <a:avLst>
              <a:gd name="adj1" fmla="val 50000"/>
              <a:gd name="adj2" fmla="val 502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Up Arrow 44"/>
          <p:cNvSpPr/>
          <p:nvPr/>
        </p:nvSpPr>
        <p:spPr>
          <a:xfrm>
            <a:off x="5148360" y="2932200"/>
            <a:ext cx="215640" cy="43164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Up Arrow 45"/>
          <p:cNvSpPr/>
          <p:nvPr/>
        </p:nvSpPr>
        <p:spPr>
          <a:xfrm>
            <a:off x="665964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be 53"/>
          <p:cNvSpPr/>
          <p:nvPr/>
        </p:nvSpPr>
        <p:spPr>
          <a:xfrm>
            <a:off x="6199200" y="3651120"/>
            <a:ext cx="647640" cy="6494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5767560" y="3940200"/>
            <a:ext cx="86328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-Shape 55"/>
          <p:cNvSpPr/>
          <p:nvPr/>
        </p:nvSpPr>
        <p:spPr>
          <a:xfrm>
            <a:off x="5705640" y="3838680"/>
            <a:ext cx="1008000" cy="955440"/>
          </a:xfrm>
          <a:custGeom>
            <a:avLst/>
            <a:gdLst>
              <a:gd name="textAreaLeft" fmla="*/ 0 w 1008000"/>
              <a:gd name="textAreaRight" fmla="*/ 1008360 w 1008000"/>
              <a:gd name="textAreaTop" fmla="*/ 477720 h 955440"/>
              <a:gd name="textAreaBottom" fmla="*/ 955800 h 95544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46"/>
          <p:cNvSpPr/>
          <p:nvPr/>
        </p:nvSpPr>
        <p:spPr>
          <a:xfrm rot="20605800">
            <a:off x="5388120" y="405612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47"/>
          <p:cNvSpPr/>
          <p:nvPr/>
        </p:nvSpPr>
        <p:spPr>
          <a:xfrm rot="1231800">
            <a:off x="5148360" y="405756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8"/>
          <p:cNvSpPr/>
          <p:nvPr/>
        </p:nvSpPr>
        <p:spPr>
          <a:xfrm>
            <a:off x="5545080" y="4334040"/>
            <a:ext cx="574560" cy="5760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49"/>
          <p:cNvSpPr/>
          <p:nvPr/>
        </p:nvSpPr>
        <p:spPr>
          <a:xfrm rot="18255600">
            <a:off x="5640120" y="4030560"/>
            <a:ext cx="63504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50"/>
          <p:cNvSpPr/>
          <p:nvPr/>
        </p:nvSpPr>
        <p:spPr>
          <a:xfrm rot="16200000">
            <a:off x="5391000" y="446076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6443640" y="1276200"/>
            <a:ext cx="223200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Isosceles Triangle 58"/>
          <p:cNvGrpSpPr/>
          <p:nvPr/>
        </p:nvGrpSpPr>
        <p:grpSpPr>
          <a:xfrm>
            <a:off x="7010280" y="1841400"/>
            <a:ext cx="463680" cy="749520"/>
            <a:chOff x="7010280" y="1841400"/>
            <a:chExt cx="463680" cy="749520"/>
          </a:xfrm>
        </p:grpSpPr>
        <p:pic>
          <p:nvPicPr>
            <p:cNvPr id="113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01028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20605800">
              <a:off x="7075440" y="2178000"/>
              <a:ext cx="217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Isosceles Triangle 59"/>
          <p:cNvGrpSpPr/>
          <p:nvPr/>
        </p:nvGrpSpPr>
        <p:grpSpPr>
          <a:xfrm>
            <a:off x="6572160" y="1835280"/>
            <a:ext cx="487440" cy="755640"/>
            <a:chOff x="6572160" y="1835280"/>
            <a:chExt cx="487440" cy="755640"/>
          </a:xfrm>
        </p:grpSpPr>
        <p:pic>
          <p:nvPicPr>
            <p:cNvPr id="116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57216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231800">
              <a:off x="6740280" y="216036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Cube 60"/>
          <p:cNvGrpSpPr/>
          <p:nvPr/>
        </p:nvGrpSpPr>
        <p:grpSpPr>
          <a:xfrm>
            <a:off x="7723080" y="1401840"/>
            <a:ext cx="682560" cy="682560"/>
            <a:chOff x="7723080" y="1401840"/>
            <a:chExt cx="682560" cy="682560"/>
          </a:xfrm>
        </p:grpSpPr>
        <p:pic>
          <p:nvPicPr>
            <p:cNvPr id="119" name="Cube 60" descr=""/>
            <p:cNvPicPr/>
            <p:nvPr/>
          </p:nvPicPr>
          <p:blipFill>
            <a:blip r:embed="rId3"/>
            <a:stretch/>
          </p:blipFill>
          <p:spPr>
            <a:xfrm>
              <a:off x="772308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740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1"/>
          <p:cNvSpPr/>
          <p:nvPr/>
        </p:nvSpPr>
        <p:spPr>
          <a:xfrm>
            <a:off x="637236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2"/>
          <p:cNvSpPr/>
          <p:nvPr/>
        </p:nvSpPr>
        <p:spPr>
          <a:xfrm>
            <a:off x="4859280" y="3508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um.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3348000" y="1276200"/>
            <a:ext cx="2232000" cy="1366920"/>
            <a:chOff x="3348000" y="1276200"/>
            <a:chExt cx="2232000" cy="1366920"/>
          </a:xfrm>
        </p:grpSpPr>
        <p:sp>
          <p:nvSpPr>
            <p:cNvPr id="124" name="Rectangle 64"/>
            <p:cNvSpPr/>
            <p:nvPr/>
          </p:nvSpPr>
          <p:spPr>
            <a:xfrm>
              <a:off x="334800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65"/>
            <p:cNvSpPr/>
            <p:nvPr/>
          </p:nvSpPr>
          <p:spPr>
            <a:xfrm rot="20605800">
              <a:off x="3833280" y="1840680"/>
              <a:ext cx="434520" cy="68220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Isosceles Triangle 66"/>
            <p:cNvSpPr/>
            <p:nvPr/>
          </p:nvSpPr>
          <p:spPr>
            <a:xfrm rot="1231800">
              <a:off x="3592800" y="1843200"/>
              <a:ext cx="482040" cy="66456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ube 67"/>
            <p:cNvSpPr/>
            <p:nvPr/>
          </p:nvSpPr>
          <p:spPr>
            <a:xfrm>
              <a:off x="464400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68"/>
          <p:cNvSpPr/>
          <p:nvPr/>
        </p:nvSpPr>
        <p:spPr>
          <a:xfrm>
            <a:off x="237492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2844720" y="1495440"/>
            <a:ext cx="2232000" cy="1368360"/>
            <a:chOff x="2844720" y="1495440"/>
            <a:chExt cx="2232000" cy="1368360"/>
          </a:xfrm>
        </p:grpSpPr>
        <p:sp>
          <p:nvSpPr>
            <p:cNvPr id="130" name="Rectangle 70"/>
            <p:cNvSpPr/>
            <p:nvPr/>
          </p:nvSpPr>
          <p:spPr>
            <a:xfrm>
              <a:off x="2844720" y="149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Isosceles Triangle 71"/>
            <p:cNvGrpSpPr/>
            <p:nvPr/>
          </p:nvGrpSpPr>
          <p:grpSpPr>
            <a:xfrm>
              <a:off x="3407400" y="2060280"/>
              <a:ext cx="462960" cy="749880"/>
              <a:chOff x="3407400" y="2060280"/>
              <a:chExt cx="462960" cy="749880"/>
            </a:xfrm>
          </p:grpSpPr>
          <p:pic>
            <p:nvPicPr>
              <p:cNvPr id="132" name="Isosceles Triangl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7400" y="2060280"/>
                <a:ext cx="462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20605800">
                <a:off x="3475800" y="2398680"/>
                <a:ext cx="2170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Isosceles Triangle 72"/>
            <p:cNvGrpSpPr/>
            <p:nvPr/>
          </p:nvGrpSpPr>
          <p:grpSpPr>
            <a:xfrm>
              <a:off x="2968560" y="2054160"/>
              <a:ext cx="487440" cy="756000"/>
              <a:chOff x="2968560" y="2054160"/>
              <a:chExt cx="487440" cy="756000"/>
            </a:xfrm>
          </p:grpSpPr>
          <p:pic>
            <p:nvPicPr>
              <p:cNvPr id="135" name="Isosceles Triangle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8560" y="2054160"/>
                <a:ext cx="4874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1231800">
                <a:off x="3139560" y="238032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Cube 73"/>
            <p:cNvSpPr/>
            <p:nvPr/>
          </p:nvSpPr>
          <p:spPr>
            <a:xfrm>
              <a:off x="4140720" y="163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4"/>
            <p:cNvSpPr/>
            <p:nvPr/>
          </p:nvSpPr>
          <p:spPr>
            <a:xfrm>
              <a:off x="4138200" y="181620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Parallelogram 75"/>
            <p:cNvGrpSpPr/>
            <p:nvPr/>
          </p:nvGrpSpPr>
          <p:grpSpPr>
            <a:xfrm>
              <a:off x="4114800" y="1621080"/>
              <a:ext cx="725400" cy="207000"/>
              <a:chOff x="4114800" y="1621080"/>
              <a:chExt cx="725400" cy="207000"/>
            </a:xfrm>
          </p:grpSpPr>
          <p:pic>
            <p:nvPicPr>
              <p:cNvPr id="140" name="Parallelogram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4800" y="1621080"/>
                <a:ext cx="7254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4258800" y="166860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Parallelogram 76"/>
            <p:cNvSpPr/>
            <p:nvPr/>
          </p:nvSpPr>
          <p:spPr>
            <a:xfrm flipH="1" rot="16200000">
              <a:off x="4397400" y="187164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2340000" y="1708200"/>
            <a:ext cx="2232000" cy="1368360"/>
            <a:chOff x="2340000" y="1708200"/>
            <a:chExt cx="2232000" cy="1368360"/>
          </a:xfrm>
        </p:grpSpPr>
        <p:sp>
          <p:nvSpPr>
            <p:cNvPr id="144" name="Rectangle 78"/>
            <p:cNvSpPr/>
            <p:nvPr/>
          </p:nvSpPr>
          <p:spPr>
            <a:xfrm>
              <a:off x="2340000" y="17082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Isosceles Triangle 79"/>
            <p:cNvSpPr/>
            <p:nvPr/>
          </p:nvSpPr>
          <p:spPr>
            <a:xfrm rot="20605800">
              <a:off x="2825280" y="22734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80"/>
            <p:cNvSpPr/>
            <p:nvPr/>
          </p:nvSpPr>
          <p:spPr>
            <a:xfrm rot="1231800">
              <a:off x="2585160" y="22759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ube 81"/>
            <p:cNvSpPr/>
            <p:nvPr/>
          </p:nvSpPr>
          <p:spPr>
            <a:xfrm>
              <a:off x="3636000" y="18522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82"/>
          <p:cNvSpPr/>
          <p:nvPr/>
        </p:nvSpPr>
        <p:spPr>
          <a:xfrm>
            <a:off x="230184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4932360" y="3508200"/>
            <a:ext cx="223200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4920" y="3219480"/>
            <a:ext cx="3097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 lighting contribu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G-Buffer RTs as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stencil culling Optim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428480"/>
            <a:ext cx="5699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encil can be used to mark samples inside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 with stencil-only pa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ear stencil to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f depth test fai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ment stencil for back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crement stencil for front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some geometry where stencil !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hoto"/>
          <p:cNvSpPr/>
          <p:nvPr/>
        </p:nvSpPr>
        <p:spPr>
          <a:xfrm rot="10800000">
            <a:off x="715788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odecagon 4"/>
          <p:cNvSpPr/>
          <p:nvPr/>
        </p:nvSpPr>
        <p:spPr>
          <a:xfrm>
            <a:off x="6221520" y="152244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5"/>
          <p:cNvSpPr/>
          <p:nvPr/>
        </p:nvSpPr>
        <p:spPr>
          <a:xfrm flipV="1">
            <a:off x="8087760" y="2037960"/>
            <a:ext cx="345960" cy="206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 rot="20250600">
            <a:off x="6575400" y="2044800"/>
            <a:ext cx="385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 rot="2115600">
            <a:off x="7622640" y="3933720"/>
            <a:ext cx="38916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8"/>
          <p:cNvSpPr/>
          <p:nvPr/>
        </p:nvSpPr>
        <p:spPr>
          <a:xfrm flipV="1">
            <a:off x="7524000" y="1491840"/>
            <a:ext cx="212760" cy="269244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rapezoid 9"/>
          <p:cNvSpPr/>
          <p:nvPr/>
        </p:nvSpPr>
        <p:spPr>
          <a:xfrm rot="10800000">
            <a:off x="6100560" y="1419120"/>
            <a:ext cx="2665080" cy="3076560"/>
          </a:xfrm>
          <a:custGeom>
            <a:avLst/>
            <a:gdLst>
              <a:gd name="textAreaLeft" fmla="*/ 486360 w 2665080"/>
              <a:gd name="textAreaRight" fmla="*/ 2178720 w 266508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10"/>
          <p:cNvSpPr/>
          <p:nvPr/>
        </p:nvSpPr>
        <p:spPr>
          <a:xfrm flipV="1">
            <a:off x="7580160" y="3759120"/>
            <a:ext cx="184320" cy="158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11"/>
          <p:cNvSpPr/>
          <p:nvPr/>
        </p:nvSpPr>
        <p:spPr>
          <a:xfrm flipV="1">
            <a:off x="7763760" y="3551040"/>
            <a:ext cx="415800" cy="207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12"/>
          <p:cNvSpPr/>
          <p:nvPr/>
        </p:nvSpPr>
        <p:spPr>
          <a:xfrm>
            <a:off x="7764480" y="1522440"/>
            <a:ext cx="565200" cy="299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13"/>
          <p:cNvSpPr/>
          <p:nvPr/>
        </p:nvSpPr>
        <p:spPr>
          <a:xfrm>
            <a:off x="8329680" y="1822320"/>
            <a:ext cx="109440" cy="214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3"/>
          <p:cNvSpPr/>
          <p:nvPr/>
        </p:nvSpPr>
        <p:spPr>
          <a:xfrm>
            <a:off x="7974000" y="145080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4"/>
          <p:cNvSpPr/>
          <p:nvPr/>
        </p:nvSpPr>
        <p:spPr>
          <a:xfrm>
            <a:off x="7743960" y="3654360"/>
            <a:ext cx="43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16"/>
          <p:cNvSpPr/>
          <p:nvPr/>
        </p:nvSpPr>
        <p:spPr>
          <a:xfrm flipH="1" flipV="1">
            <a:off x="6475320" y="1917720"/>
            <a:ext cx="287280" cy="1658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7"/>
          <p:cNvSpPr/>
          <p:nvPr/>
        </p:nvSpPr>
        <p:spPr>
          <a:xfrm flipH="1" flipV="1">
            <a:off x="6975360" y="1620720"/>
            <a:ext cx="136800" cy="21384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8"/>
          <p:cNvSpPr/>
          <p:nvPr/>
        </p:nvSpPr>
        <p:spPr>
          <a:xfrm>
            <a:off x="6761160" y="3592440"/>
            <a:ext cx="351000" cy="1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19"/>
          <p:cNvSpPr/>
          <p:nvPr/>
        </p:nvSpPr>
        <p:spPr>
          <a:xfrm flipV="1">
            <a:off x="6546960" y="1596960"/>
            <a:ext cx="436320" cy="225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0"/>
          <p:cNvSpPr/>
          <p:nvPr/>
        </p:nvSpPr>
        <p:spPr>
          <a:xfrm flipV="1">
            <a:off x="6472080" y="1821960"/>
            <a:ext cx="74880" cy="101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7"/>
          <p:cNvSpPr/>
          <p:nvPr/>
        </p:nvSpPr>
        <p:spPr>
          <a:xfrm>
            <a:off x="6437160" y="1474920"/>
            <a:ext cx="4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0760" y="4184640"/>
            <a:ext cx="795240" cy="8352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512" name="Rectangle 2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513" name="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Straight Connector 2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2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lly Deferred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tion in Rend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4849920" y="1998720"/>
            <a:ext cx="3754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quires mor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der Nor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Isosceles Triangle 8"/>
          <p:cNvSpPr/>
          <p:nvPr/>
        </p:nvSpPr>
        <p:spPr>
          <a:xfrm rot="20605800">
            <a:off x="25718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11"/>
          <p:cNvSpPr/>
          <p:nvPr/>
        </p:nvSpPr>
        <p:spPr>
          <a:xfrm rot="1231800">
            <a:off x="233208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be 5"/>
          <p:cNvSpPr/>
          <p:nvPr/>
        </p:nvSpPr>
        <p:spPr>
          <a:xfrm>
            <a:off x="234000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7"/>
          <p:cNvSpPr/>
          <p:nvPr/>
        </p:nvSpPr>
        <p:spPr>
          <a:xfrm>
            <a:off x="3419640" y="3710160"/>
            <a:ext cx="720720" cy="28872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9"/>
          <p:cNvSpPr/>
          <p:nvPr/>
        </p:nvSpPr>
        <p:spPr>
          <a:xfrm>
            <a:off x="3419640" y="4573440"/>
            <a:ext cx="720720" cy="289080"/>
          </a:xfrm>
          <a:prstGeom prst="rightArrow">
            <a:avLst>
              <a:gd name="adj1" fmla="val 50000"/>
              <a:gd name="adj2" fmla="val 498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643280" y="3565440"/>
            <a:ext cx="223236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Isosceles Triangle 15"/>
          <p:cNvGrpSpPr/>
          <p:nvPr/>
        </p:nvGrpSpPr>
        <p:grpSpPr>
          <a:xfrm>
            <a:off x="5205240" y="4133880"/>
            <a:ext cx="463680" cy="749160"/>
            <a:chOff x="5205240" y="4133880"/>
            <a:chExt cx="463680" cy="749160"/>
          </a:xfrm>
        </p:grpSpPr>
        <p:pic>
          <p:nvPicPr>
            <p:cNvPr id="164" name="Isosceles Triangle 15" descr=""/>
            <p:cNvPicPr/>
            <p:nvPr/>
          </p:nvPicPr>
          <p:blipFill>
            <a:blip r:embed="rId1"/>
            <a:stretch/>
          </p:blipFill>
          <p:spPr>
            <a:xfrm>
              <a:off x="5205240" y="4133880"/>
              <a:ext cx="463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605800">
              <a:off x="5275080" y="4468680"/>
              <a:ext cx="2174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Isosceles Triangle 16"/>
          <p:cNvGrpSpPr/>
          <p:nvPr/>
        </p:nvGrpSpPr>
        <p:grpSpPr>
          <a:xfrm>
            <a:off x="4767120" y="4127400"/>
            <a:ext cx="493920" cy="755640"/>
            <a:chOff x="4767120" y="4127400"/>
            <a:chExt cx="493920" cy="755640"/>
          </a:xfrm>
        </p:grpSpPr>
        <p:pic>
          <p:nvPicPr>
            <p:cNvPr id="167" name="Isosceles Triangle 16" descr=""/>
            <p:cNvPicPr/>
            <p:nvPr/>
          </p:nvPicPr>
          <p:blipFill>
            <a:blip r:embed="rId2"/>
            <a:stretch/>
          </p:blipFill>
          <p:spPr>
            <a:xfrm>
              <a:off x="4767120" y="4127400"/>
              <a:ext cx="493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231800">
              <a:off x="4939920" y="445104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Cube 17"/>
          <p:cNvSpPr/>
          <p:nvPr/>
        </p:nvSpPr>
        <p:spPr>
          <a:xfrm>
            <a:off x="5940360" y="3710160"/>
            <a:ext cx="647640" cy="647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606920" y="35719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4535640" y="1492200"/>
            <a:ext cx="2303280" cy="1366920"/>
            <a:chOff x="4535640" y="1492200"/>
            <a:chExt cx="2303280" cy="1366920"/>
          </a:xfrm>
        </p:grpSpPr>
        <p:sp>
          <p:nvSpPr>
            <p:cNvPr id="172" name="Rectangle 26"/>
            <p:cNvSpPr/>
            <p:nvPr/>
          </p:nvSpPr>
          <p:spPr>
            <a:xfrm>
              <a:off x="4607280" y="1492200"/>
              <a:ext cx="223164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Isosceles Triangle 27"/>
            <p:cNvGrpSpPr/>
            <p:nvPr/>
          </p:nvGrpSpPr>
          <p:grpSpPr>
            <a:xfrm>
              <a:off x="5169960" y="2060640"/>
              <a:ext cx="462960" cy="743040"/>
              <a:chOff x="5169960" y="2060640"/>
              <a:chExt cx="462960" cy="743040"/>
            </a:xfrm>
          </p:grpSpPr>
          <p:pic>
            <p:nvPicPr>
              <p:cNvPr id="174" name="Isosceles Triangl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9960" y="2060640"/>
                <a:ext cx="46296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 rot="20605800">
                <a:off x="5238720" y="239472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Isosceles Triangle 28"/>
            <p:cNvGrpSpPr/>
            <p:nvPr/>
          </p:nvGrpSpPr>
          <p:grpSpPr>
            <a:xfrm>
              <a:off x="4731120" y="2054520"/>
              <a:ext cx="487440" cy="749160"/>
              <a:chOff x="4731120" y="2054520"/>
              <a:chExt cx="487440" cy="749160"/>
            </a:xfrm>
          </p:grpSpPr>
          <p:pic>
            <p:nvPicPr>
              <p:cNvPr id="177" name="Isosceles Tri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1120" y="2054520"/>
                <a:ext cx="48744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1231800">
                <a:off x="4902480" y="2376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Cube 29"/>
            <p:cNvGrpSpPr/>
            <p:nvPr/>
          </p:nvGrpSpPr>
          <p:grpSpPr>
            <a:xfrm>
              <a:off x="5882760" y="1615680"/>
              <a:ext cx="688320" cy="688320"/>
              <a:chOff x="5882760" y="1615680"/>
              <a:chExt cx="688320" cy="688320"/>
            </a:xfrm>
          </p:grpSpPr>
          <p:pic>
            <p:nvPicPr>
              <p:cNvPr id="180" name="Cub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2760" y="1615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902920" y="1797840"/>
                <a:ext cx="485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Box 32"/>
            <p:cNvSpPr/>
            <p:nvPr/>
          </p:nvSpPr>
          <p:spPr>
            <a:xfrm>
              <a:off x="4535640" y="1492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Up-Down Arrow 34"/>
          <p:cNvSpPr/>
          <p:nvPr/>
        </p:nvSpPr>
        <p:spPr>
          <a:xfrm>
            <a:off x="5614920" y="3003480"/>
            <a:ext cx="216000" cy="360360"/>
          </a:xfrm>
          <a:prstGeom prst="upDown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937120" y="3886200"/>
            <a:ext cx="486000" cy="485640"/>
          </a:xfrm>
          <a:prstGeom prst="rect">
            <a:avLst/>
          </a:prstGeom>
          <a:gradFill rotWithShape="0">
            <a:gsLst>
              <a:gs pos="0">
                <a:srgbClr val="675b75"/>
              </a:gs>
              <a:gs pos="100000">
                <a:srgbClr val="b39fc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Parallelogram 42"/>
          <p:cNvGrpSpPr/>
          <p:nvPr/>
        </p:nvGrpSpPr>
        <p:grpSpPr>
          <a:xfrm>
            <a:off x="5919840" y="3687840"/>
            <a:ext cx="718920" cy="214200"/>
            <a:chOff x="5919840" y="3687840"/>
            <a:chExt cx="718920" cy="214200"/>
          </a:xfrm>
        </p:grpSpPr>
        <p:pic>
          <p:nvPicPr>
            <p:cNvPr id="186" name="Parallelogram 42" descr=""/>
            <p:cNvPicPr/>
            <p:nvPr/>
          </p:nvPicPr>
          <p:blipFill>
            <a:blip r:embed="rId6"/>
            <a:stretch/>
          </p:blipFill>
          <p:spPr>
            <a:xfrm>
              <a:off x="5919840" y="3687840"/>
              <a:ext cx="71892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058080" y="3740040"/>
              <a:ext cx="4410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arallelogram 43"/>
          <p:cNvSpPr/>
          <p:nvPr/>
        </p:nvSpPr>
        <p:spPr>
          <a:xfrm flipH="1" rot="16200000">
            <a:off x="6197400" y="3941640"/>
            <a:ext cx="654120" cy="200160"/>
          </a:xfrm>
          <a:prstGeom prst="parallelogram">
            <a:avLst>
              <a:gd name="adj" fmla="val 94454"/>
            </a:avLst>
          </a:pr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428480"/>
            <a:ext cx="397044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 in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rmal (and depth)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s a single color 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 Multiple Render Targets requ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ing Accu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708360" y="43718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1"/>
          <p:cNvSpPr/>
          <p:nvPr/>
        </p:nvSpPr>
        <p:spPr>
          <a:xfrm>
            <a:off x="3564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42"/>
          <p:cNvSpPr/>
          <p:nvPr/>
        </p:nvSpPr>
        <p:spPr>
          <a:xfrm>
            <a:off x="4535640" y="3651120"/>
            <a:ext cx="396720" cy="289080"/>
          </a:xfrm>
          <a:prstGeom prst="rightArrow">
            <a:avLst>
              <a:gd name="adj1" fmla="val 50000"/>
              <a:gd name="adj2" fmla="val 497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43"/>
          <p:cNvSpPr/>
          <p:nvPr/>
        </p:nvSpPr>
        <p:spPr>
          <a:xfrm>
            <a:off x="4535640" y="4516560"/>
            <a:ext cx="396720" cy="28728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Up Arrow 44"/>
          <p:cNvSpPr/>
          <p:nvPr/>
        </p:nvSpPr>
        <p:spPr>
          <a:xfrm>
            <a:off x="536400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Up Arrow 45"/>
          <p:cNvSpPr/>
          <p:nvPr/>
        </p:nvSpPr>
        <p:spPr>
          <a:xfrm>
            <a:off x="6875640" y="2787480"/>
            <a:ext cx="217440" cy="576360"/>
          </a:xfrm>
          <a:prstGeom prst="upArrow">
            <a:avLst>
              <a:gd name="adj1" fmla="val 50000"/>
              <a:gd name="adj2" fmla="val 497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7"/>
          <p:cNvSpPr/>
          <p:nvPr/>
        </p:nvSpPr>
        <p:spPr>
          <a:xfrm>
            <a:off x="6659640" y="1276200"/>
            <a:ext cx="223344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Isosceles Triangle 58"/>
          <p:cNvGrpSpPr/>
          <p:nvPr/>
        </p:nvGrpSpPr>
        <p:grpSpPr>
          <a:xfrm>
            <a:off x="7223040" y="1841400"/>
            <a:ext cx="463680" cy="749520"/>
            <a:chOff x="7223040" y="1841400"/>
            <a:chExt cx="463680" cy="749520"/>
          </a:xfrm>
        </p:grpSpPr>
        <p:pic>
          <p:nvPicPr>
            <p:cNvPr id="199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22304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20605800">
              <a:off x="7292880" y="217764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Isosceles Triangle 59"/>
          <p:cNvGrpSpPr/>
          <p:nvPr/>
        </p:nvGrpSpPr>
        <p:grpSpPr>
          <a:xfrm>
            <a:off x="6784920" y="1835280"/>
            <a:ext cx="487440" cy="755640"/>
            <a:chOff x="6784920" y="1835280"/>
            <a:chExt cx="487440" cy="755640"/>
          </a:xfrm>
        </p:grpSpPr>
        <p:pic>
          <p:nvPicPr>
            <p:cNvPr id="202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78492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 rot="1231800">
              <a:off x="6956280" y="2160720"/>
              <a:ext cx="24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Cube 60"/>
          <p:cNvGrpSpPr/>
          <p:nvPr/>
        </p:nvGrpSpPr>
        <p:grpSpPr>
          <a:xfrm>
            <a:off x="7937640" y="1401840"/>
            <a:ext cx="682560" cy="682560"/>
            <a:chOff x="7937640" y="1401840"/>
            <a:chExt cx="682560" cy="682560"/>
          </a:xfrm>
        </p:grpSpPr>
        <p:pic>
          <p:nvPicPr>
            <p:cNvPr id="205" name="Cube 60" descr=""/>
            <p:cNvPicPr/>
            <p:nvPr/>
          </p:nvPicPr>
          <p:blipFill>
            <a:blip r:embed="rId3"/>
            <a:stretch/>
          </p:blipFill>
          <p:spPr>
            <a:xfrm>
              <a:off x="793764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956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61"/>
          <p:cNvSpPr/>
          <p:nvPr/>
        </p:nvSpPr>
        <p:spPr>
          <a:xfrm>
            <a:off x="6588000" y="127620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2"/>
          <p:cNvGrpSpPr/>
          <p:nvPr/>
        </p:nvGrpSpPr>
        <p:grpSpPr>
          <a:xfrm>
            <a:off x="5076720" y="3508200"/>
            <a:ext cx="2303280" cy="1644480"/>
            <a:chOff x="5076720" y="3508200"/>
            <a:chExt cx="2303280" cy="1644480"/>
          </a:xfrm>
        </p:grpSpPr>
        <p:grpSp>
          <p:nvGrpSpPr>
            <p:cNvPr id="209" name="Oval 54"/>
            <p:cNvGrpSpPr/>
            <p:nvPr/>
          </p:nvGrpSpPr>
          <p:grpSpPr>
            <a:xfrm>
              <a:off x="5980680" y="3931920"/>
              <a:ext cx="871560" cy="877680"/>
              <a:chOff x="5980680" y="3931920"/>
              <a:chExt cx="871560" cy="877680"/>
            </a:xfrm>
          </p:grpSpPr>
          <p:pic>
            <p:nvPicPr>
              <p:cNvPr id="210" name="Oval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5980680" y="3931920"/>
                <a:ext cx="87156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10640" y="4066200"/>
                <a:ext cx="61092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-Shape 55"/>
            <p:cNvSpPr/>
            <p:nvPr/>
          </p:nvSpPr>
          <p:spPr>
            <a:xfrm>
              <a:off x="5921640" y="3839400"/>
              <a:ext cx="1007640" cy="95508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48"/>
            <p:cNvGrpSpPr/>
            <p:nvPr/>
          </p:nvGrpSpPr>
          <p:grpSpPr>
            <a:xfrm>
              <a:off x="5754960" y="4328280"/>
              <a:ext cx="585000" cy="591120"/>
              <a:chOff x="5754960" y="4328280"/>
              <a:chExt cx="585000" cy="591120"/>
            </a:xfrm>
          </p:grpSpPr>
          <p:pic>
            <p:nvPicPr>
              <p:cNvPr id="214" name="Oval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5754960" y="4328280"/>
                <a:ext cx="58500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844960" y="4418640"/>
                <a:ext cx="4071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Isosceles Triangle 49"/>
            <p:cNvSpPr/>
            <p:nvPr/>
          </p:nvSpPr>
          <p:spPr>
            <a:xfrm rot="18255600">
              <a:off x="5856840" y="4030200"/>
              <a:ext cx="63504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Isosceles Triangle 50"/>
            <p:cNvSpPr/>
            <p:nvPr/>
          </p:nvSpPr>
          <p:spPr>
            <a:xfrm rot="16200000">
              <a:off x="5607360" y="4461120"/>
              <a:ext cx="54252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6"/>
            <p:cNvSpPr/>
            <p:nvPr/>
          </p:nvSpPr>
          <p:spPr>
            <a:xfrm>
              <a:off x="5148360" y="3508200"/>
              <a:ext cx="223164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62"/>
            <p:cNvSpPr/>
            <p:nvPr/>
          </p:nvSpPr>
          <p:spPr>
            <a:xfrm>
              <a:off x="5076720" y="3508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9"/>
          <p:cNvGrpSpPr/>
          <p:nvPr/>
        </p:nvGrpSpPr>
        <p:grpSpPr>
          <a:xfrm>
            <a:off x="3492360" y="1276200"/>
            <a:ext cx="2232000" cy="1366920"/>
            <a:chOff x="3492360" y="1276200"/>
            <a:chExt cx="2232000" cy="1366920"/>
          </a:xfrm>
        </p:grpSpPr>
        <p:sp>
          <p:nvSpPr>
            <p:cNvPr id="221" name="Rectangle 70"/>
            <p:cNvSpPr/>
            <p:nvPr/>
          </p:nvSpPr>
          <p:spPr>
            <a:xfrm>
              <a:off x="349236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Isosceles Triangle 71"/>
            <p:cNvGrpSpPr/>
            <p:nvPr/>
          </p:nvGrpSpPr>
          <p:grpSpPr>
            <a:xfrm>
              <a:off x="4054320" y="1841040"/>
              <a:ext cx="462960" cy="749160"/>
              <a:chOff x="4054320" y="1841040"/>
              <a:chExt cx="462960" cy="749160"/>
            </a:xfrm>
          </p:grpSpPr>
          <p:pic>
            <p:nvPicPr>
              <p:cNvPr id="223" name="Isosceles Triangle 7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54320" y="1841040"/>
                <a:ext cx="46296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20605800">
                <a:off x="4123800" y="217836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Isosceles Triangle 72"/>
            <p:cNvGrpSpPr/>
            <p:nvPr/>
          </p:nvGrpSpPr>
          <p:grpSpPr>
            <a:xfrm>
              <a:off x="3615120" y="1834920"/>
              <a:ext cx="493560" cy="755280"/>
              <a:chOff x="3615120" y="1834920"/>
              <a:chExt cx="493560" cy="755280"/>
            </a:xfrm>
          </p:grpSpPr>
          <p:pic>
            <p:nvPicPr>
              <p:cNvPr id="226" name="Isosceles Triangle 72" descr=""/>
              <p:cNvPicPr/>
              <p:nvPr/>
            </p:nvPicPr>
            <p:blipFill>
              <a:blip r:embed="rId7"/>
              <a:stretch/>
            </p:blipFill>
            <p:spPr>
              <a:xfrm>
                <a:off x="3615120" y="1834920"/>
                <a:ext cx="493560" cy="7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 rot="1231800">
                <a:off x="3787200" y="2160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Cube 73"/>
            <p:cNvSpPr/>
            <p:nvPr/>
          </p:nvSpPr>
          <p:spPr>
            <a:xfrm>
              <a:off x="478836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4785840" y="1596600"/>
              <a:ext cx="484920" cy="48456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Parallelogram 75"/>
            <p:cNvGrpSpPr/>
            <p:nvPr/>
          </p:nvGrpSpPr>
          <p:grpSpPr>
            <a:xfrm>
              <a:off x="4767480" y="1402560"/>
              <a:ext cx="719280" cy="207000"/>
              <a:chOff x="4767480" y="1402560"/>
              <a:chExt cx="719280" cy="207000"/>
            </a:xfrm>
          </p:grpSpPr>
          <p:pic>
            <p:nvPicPr>
              <p:cNvPr id="231" name="Parallelogram 75" descr=""/>
              <p:cNvPicPr/>
              <p:nvPr/>
            </p:nvPicPr>
            <p:blipFill>
              <a:blip r:embed="rId8"/>
              <a:stretch/>
            </p:blipFill>
            <p:spPr>
              <a:xfrm>
                <a:off x="4767480" y="140256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4906080" y="144936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Parallelogram 76"/>
            <p:cNvSpPr/>
            <p:nvPr/>
          </p:nvSpPr>
          <p:spPr>
            <a:xfrm flipH="1" rot="16200000">
              <a:off x="5045400" y="1651680"/>
              <a:ext cx="653400" cy="199800"/>
            </a:xfrm>
            <a:prstGeom prst="parallelogram">
              <a:avLst>
                <a:gd name="adj" fmla="val 94520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51"/>
          <p:cNvSpPr/>
          <p:nvPr/>
        </p:nvSpPr>
        <p:spPr>
          <a:xfrm>
            <a:off x="341964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9840"/>
            <a:ext cx="317808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form all ligh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lculation into light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normal and depth buffer as input 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LightColor * N.L * Attenuation in RGB, specular in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bine lighting with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sosceles Triangle 8"/>
          <p:cNvSpPr/>
          <p:nvPr/>
        </p:nvSpPr>
        <p:spPr>
          <a:xfrm rot="20605800">
            <a:off x="3402000" y="333972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sosceles Triangle 11"/>
          <p:cNvSpPr/>
          <p:nvPr/>
        </p:nvSpPr>
        <p:spPr>
          <a:xfrm rot="1231800">
            <a:off x="316080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ube 5"/>
          <p:cNvSpPr/>
          <p:nvPr/>
        </p:nvSpPr>
        <p:spPr>
          <a:xfrm>
            <a:off x="316872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4249800" y="3710160"/>
            <a:ext cx="718920" cy="28872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9"/>
          <p:cNvSpPr/>
          <p:nvPr/>
        </p:nvSpPr>
        <p:spPr>
          <a:xfrm>
            <a:off x="4249800" y="4573440"/>
            <a:ext cx="718920" cy="289080"/>
          </a:xfrm>
          <a:prstGeom prst="rightArrow">
            <a:avLst>
              <a:gd name="adj1" fmla="val 50000"/>
              <a:gd name="adj2" fmla="val 497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5"/>
          <p:cNvGrpSpPr/>
          <p:nvPr/>
        </p:nvGrpSpPr>
        <p:grpSpPr>
          <a:xfrm>
            <a:off x="6443640" y="1492200"/>
            <a:ext cx="2305080" cy="1366920"/>
            <a:chOff x="6443640" y="1492200"/>
            <a:chExt cx="2305080" cy="1366920"/>
          </a:xfrm>
        </p:grpSpPr>
        <p:sp>
          <p:nvSpPr>
            <p:cNvPr id="243" name="Rectangle 26"/>
            <p:cNvSpPr/>
            <p:nvPr/>
          </p:nvSpPr>
          <p:spPr>
            <a:xfrm>
              <a:off x="6515640" y="1492200"/>
              <a:ext cx="223308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Isosceles Triangle 27"/>
            <p:cNvGrpSpPr/>
            <p:nvPr/>
          </p:nvGrpSpPr>
          <p:grpSpPr>
            <a:xfrm>
              <a:off x="7083000" y="2060640"/>
              <a:ext cx="457200" cy="743040"/>
              <a:chOff x="7083000" y="2060640"/>
              <a:chExt cx="457200" cy="743040"/>
            </a:xfrm>
          </p:grpSpPr>
          <p:pic>
            <p:nvPicPr>
              <p:cNvPr id="24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3000" y="2060640"/>
                <a:ext cx="45720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0605800">
                <a:off x="7147080" y="2394720"/>
                <a:ext cx="21744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Isosceles Triangle 28"/>
            <p:cNvGrpSpPr/>
            <p:nvPr/>
          </p:nvGrpSpPr>
          <p:grpSpPr>
            <a:xfrm>
              <a:off x="6638040" y="2054520"/>
              <a:ext cx="493920" cy="749160"/>
              <a:chOff x="6638040" y="2054520"/>
              <a:chExt cx="493920" cy="749160"/>
            </a:xfrm>
          </p:grpSpPr>
          <p:pic>
            <p:nvPicPr>
              <p:cNvPr id="24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6638040" y="2054520"/>
                <a:ext cx="49392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1231800">
                <a:off x="6811200" y="2376360"/>
                <a:ext cx="241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Cube 29"/>
            <p:cNvGrpSpPr/>
            <p:nvPr/>
          </p:nvGrpSpPr>
          <p:grpSpPr>
            <a:xfrm>
              <a:off x="7796880" y="1615680"/>
              <a:ext cx="682920" cy="688320"/>
              <a:chOff x="7796880" y="1615680"/>
              <a:chExt cx="682920" cy="688320"/>
            </a:xfrm>
          </p:grpSpPr>
          <p:pic>
            <p:nvPicPr>
              <p:cNvPr id="25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6880" y="1615680"/>
                <a:ext cx="6829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7812360" y="1797840"/>
                <a:ext cx="4863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Box 32"/>
            <p:cNvSpPr/>
            <p:nvPr/>
          </p:nvSpPr>
          <p:spPr>
            <a:xfrm>
              <a:off x="644364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Up Arrow 23"/>
          <p:cNvSpPr/>
          <p:nvPr/>
        </p:nvSpPr>
        <p:spPr>
          <a:xfrm>
            <a:off x="6875640" y="3003480"/>
            <a:ext cx="217440" cy="360360"/>
          </a:xfrm>
          <a:prstGeom prst="upArrow">
            <a:avLst>
              <a:gd name="adj1" fmla="val 50000"/>
              <a:gd name="adj2" fmla="val 4971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4"/>
          <p:cNvGrpSpPr/>
          <p:nvPr/>
        </p:nvGrpSpPr>
        <p:grpSpPr>
          <a:xfrm>
            <a:off x="3851280" y="1492200"/>
            <a:ext cx="2305080" cy="1644480"/>
            <a:chOff x="3851280" y="1492200"/>
            <a:chExt cx="2305080" cy="1644480"/>
          </a:xfrm>
        </p:grpSpPr>
        <p:grpSp>
          <p:nvGrpSpPr>
            <p:cNvPr id="256" name="Oval 25"/>
            <p:cNvGrpSpPr/>
            <p:nvPr/>
          </p:nvGrpSpPr>
          <p:grpSpPr>
            <a:xfrm>
              <a:off x="4754520" y="1920600"/>
              <a:ext cx="871920" cy="871560"/>
              <a:chOff x="4754520" y="1920600"/>
              <a:chExt cx="871920" cy="871560"/>
            </a:xfrm>
          </p:grpSpPr>
          <p:pic>
            <p:nvPicPr>
              <p:cNvPr id="257" name="Oval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4520" y="1920600"/>
                <a:ext cx="8719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885560" y="2050560"/>
                <a:ext cx="61128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-Shape 30"/>
            <p:cNvSpPr/>
            <p:nvPr/>
          </p:nvSpPr>
          <p:spPr>
            <a:xfrm>
              <a:off x="4696560" y="1823400"/>
              <a:ext cx="1008360" cy="95508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Oval 36"/>
            <p:cNvGrpSpPr/>
            <p:nvPr/>
          </p:nvGrpSpPr>
          <p:grpSpPr>
            <a:xfrm>
              <a:off x="4528800" y="2310840"/>
              <a:ext cx="591480" cy="591120"/>
              <a:chOff x="4528800" y="2310840"/>
              <a:chExt cx="591480" cy="591120"/>
            </a:xfrm>
          </p:grpSpPr>
          <p:pic>
            <p:nvPicPr>
              <p:cNvPr id="261" name="Oval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28800" y="2310840"/>
                <a:ext cx="59148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4620240" y="2403000"/>
                <a:ext cx="40752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Isosceles Triangle 37"/>
            <p:cNvSpPr/>
            <p:nvPr/>
          </p:nvSpPr>
          <p:spPr>
            <a:xfrm rot="18255600">
              <a:off x="4631760" y="2013840"/>
              <a:ext cx="63504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Isosceles Triangle 38"/>
            <p:cNvSpPr/>
            <p:nvPr/>
          </p:nvSpPr>
          <p:spPr>
            <a:xfrm rot="16200000">
              <a:off x="4382280" y="2444760"/>
              <a:ext cx="54252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3923280" y="1492200"/>
              <a:ext cx="223308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40"/>
            <p:cNvSpPr/>
            <p:nvPr/>
          </p:nvSpPr>
          <p:spPr>
            <a:xfrm>
              <a:off x="385128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Cube 44"/>
          <p:cNvSpPr/>
          <p:nvPr/>
        </p:nvSpPr>
        <p:spPr>
          <a:xfrm>
            <a:off x="6488280" y="3735360"/>
            <a:ext cx="647640" cy="6476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6056280" y="4022640"/>
            <a:ext cx="86364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-Shape 46"/>
          <p:cNvSpPr/>
          <p:nvPr/>
        </p:nvSpPr>
        <p:spPr>
          <a:xfrm>
            <a:off x="5992920" y="3922560"/>
            <a:ext cx="1008000" cy="954360"/>
          </a:xfrm>
          <a:custGeom>
            <a:avLst/>
            <a:gdLst>
              <a:gd name="textAreaLeft" fmla="*/ 0 w 1008000"/>
              <a:gd name="textAreaRight" fmla="*/ 1008360 w 1008000"/>
              <a:gd name="textAreaTop" fmla="*/ 477360 h 954360"/>
              <a:gd name="textAreaBottom" fmla="*/ 954720 h 95436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sosceles Triangle 47"/>
          <p:cNvSpPr/>
          <p:nvPr/>
        </p:nvSpPr>
        <p:spPr>
          <a:xfrm rot="20605800">
            <a:off x="5676840" y="413820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sosceles Triangle 48"/>
          <p:cNvSpPr/>
          <p:nvPr/>
        </p:nvSpPr>
        <p:spPr>
          <a:xfrm rot="1231800">
            <a:off x="5435640" y="4141800"/>
            <a:ext cx="482400" cy="6634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9"/>
          <p:cNvSpPr/>
          <p:nvPr/>
        </p:nvSpPr>
        <p:spPr>
          <a:xfrm>
            <a:off x="5832360" y="4417920"/>
            <a:ext cx="576360" cy="576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sosceles Triangle 50"/>
          <p:cNvSpPr/>
          <p:nvPr/>
        </p:nvSpPr>
        <p:spPr>
          <a:xfrm rot="18255600">
            <a:off x="5928480" y="4114080"/>
            <a:ext cx="635040" cy="83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sosceles Triangle 51"/>
          <p:cNvSpPr/>
          <p:nvPr/>
        </p:nvSpPr>
        <p:spPr>
          <a:xfrm rot="16200000">
            <a:off x="5678280" y="454320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2"/>
          <p:cNvSpPr/>
          <p:nvPr/>
        </p:nvSpPr>
        <p:spPr>
          <a:xfrm>
            <a:off x="5148360" y="3591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3"/>
          <p:cNvSpPr/>
          <p:nvPr/>
        </p:nvSpPr>
        <p:spPr>
          <a:xfrm>
            <a:off x="5219640" y="3591000"/>
            <a:ext cx="223200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Up Arrow 54"/>
          <p:cNvSpPr/>
          <p:nvPr/>
        </p:nvSpPr>
        <p:spPr>
          <a:xfrm>
            <a:off x="5580000" y="3003480"/>
            <a:ext cx="216000" cy="36036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491840"/>
            <a:ext cx="289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light buffer as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tch geometry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bine with ligh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e-pass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One material fetch per pixel regardless of number of li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Content Placeholder 2"/>
          <p:cNvSpPr/>
          <p:nvPr/>
        </p:nvSpPr>
        <p:spPr>
          <a:xfrm>
            <a:off x="4849920" y="1998720"/>
            <a:ext cx="4294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wo scene geometry pass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Unique ligh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7:45Z</dcterms:created>
  <dc:creator>Advanced Micro Devices</dc:creator>
  <dc:description/>
  <dc:language>en-US</dc:language>
  <cp:lastModifiedBy>Advanced Micro Devices</cp:lastModifiedBy>
  <dcterms:modified xsi:type="dcterms:W3CDTF">2011-03-08T11:34:04Z</dcterms:modified>
  <cp:revision>436</cp:revision>
  <dc:subject/>
  <dc:title>Slide 1</dc:title>
</cp:coreProperties>
</file>